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0_3">
  <dgm:title val=""/>
  <dgm:desc val=""/>
  <dgm:catLst>
    <dgm:cat type="mainScheme" pri="10300"/>
  </dgm:catLst>
  <dgm:styleLbl name="node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lignNode1">
    <dgm:fillClrLst meth="repeat">
      <a:schemeClr val="dk2"/>
    </dgm:fillClrLst>
    <dgm:linClrLst meth="repeat">
      <a:schemeClr val="dk2"/>
    </dgm:linClrLst>
    <dgm:effectClrLst/>
    <dgm:txLinClrLst/>
    <dgm:txFillClrLst/>
    <dgm:txEffectClrLst/>
  </dgm:styleLbl>
  <dgm:styleLbl name="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ln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vennNode1">
    <dgm:fillClrLst meth="repeat">
      <a:schemeClr val="dk2">
        <a:alpha val="50000"/>
      </a:schemeClr>
    </dgm:fillClrLst>
    <dgm:linClrLst meth="repeat">
      <a:schemeClr val="lt2"/>
    </dgm:linClrLst>
    <dgm:effectClrLst/>
    <dgm:txLinClrLst/>
    <dgm:txFillClrLst/>
    <dgm:txEffectClrLst/>
  </dgm:styleLbl>
  <dgm:styleLbl name="node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fgImgPlace1">
    <dgm:fillClrLst meth="repeat">
      <a:schemeClr val="dk2">
        <a:tint val="50000"/>
      </a:schemeClr>
    </dgm:fillClrLst>
    <dgm:linClrLst meth="repeat">
      <a:schemeClr val="lt2"/>
    </dgm:linClrLst>
    <dgm:effectClrLst/>
    <dgm:txLinClrLst/>
    <dgm:txFillClrLst meth="repeat">
      <a:schemeClr val="lt2"/>
    </dgm:txFillClrLst>
    <dgm:txEffectClrLst/>
  </dgm:styleLbl>
  <dgm:styleLbl name="align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bg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callout">
    <dgm:fillClrLst meth="repeat">
      <a:schemeClr val="dk2"/>
    </dgm:fillClrLst>
    <dgm:linClrLst meth="repeat">
      <a:schemeClr val="dk2">
        <a:tint val="50000"/>
      </a:schemeClr>
    </dgm:linClrLst>
    <dgm:effectClrLst/>
    <dgm:txLinClrLst/>
    <dgm:txFillClrLst meth="repeat">
      <a:schemeClr val="lt2"/>
    </dgm:txFillClrLst>
    <dgm:txEffectClrLst/>
  </dgm:styleLbl>
  <dgm:styleLbl name="asst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parCh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 meth="repeat">
      <a:schemeClr val="lt2"/>
    </dgm:txFillClrLst>
    <dgm:txEffectClrLst/>
  </dgm:styleLbl>
  <dgm:styleLbl name="parChTrans2D2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3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4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1D1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2">
        <a:alpha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2">
        <a:tint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2">
        <a:shade val="8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2">
        <a:tint val="50000"/>
        <a:alpha val="4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2">
        <a:tint val="60000"/>
      </a:schemeClr>
    </dgm:fillClrLst>
    <dgm:linClrLst meth="repeat">
      <a:schemeClr val="lt2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2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0_3">
  <dgm:title val=""/>
  <dgm:desc val=""/>
  <dgm:catLst>
    <dgm:cat type="mainScheme" pri="10300"/>
  </dgm:catLst>
  <dgm:styleLbl name="node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lignNode1">
    <dgm:fillClrLst meth="repeat">
      <a:schemeClr val="dk2"/>
    </dgm:fillClrLst>
    <dgm:linClrLst meth="repeat">
      <a:schemeClr val="dk2"/>
    </dgm:linClrLst>
    <dgm:effectClrLst/>
    <dgm:txLinClrLst/>
    <dgm:txFillClrLst/>
    <dgm:txEffectClrLst/>
  </dgm:styleLbl>
  <dgm:styleLbl name="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ln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vennNode1">
    <dgm:fillClrLst meth="repeat">
      <a:schemeClr val="dk2">
        <a:alpha val="50000"/>
      </a:schemeClr>
    </dgm:fillClrLst>
    <dgm:linClrLst meth="repeat">
      <a:schemeClr val="lt2"/>
    </dgm:linClrLst>
    <dgm:effectClrLst/>
    <dgm:txLinClrLst/>
    <dgm:txFillClrLst/>
    <dgm:txEffectClrLst/>
  </dgm:styleLbl>
  <dgm:styleLbl name="node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fgImgPlace1">
    <dgm:fillClrLst meth="repeat">
      <a:schemeClr val="dk2">
        <a:tint val="50000"/>
      </a:schemeClr>
    </dgm:fillClrLst>
    <dgm:linClrLst meth="repeat">
      <a:schemeClr val="lt2"/>
    </dgm:linClrLst>
    <dgm:effectClrLst/>
    <dgm:txLinClrLst/>
    <dgm:txFillClrLst meth="repeat">
      <a:schemeClr val="lt2"/>
    </dgm:txFillClrLst>
    <dgm:txEffectClrLst/>
  </dgm:styleLbl>
  <dgm:styleLbl name="align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bg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callout">
    <dgm:fillClrLst meth="repeat">
      <a:schemeClr val="dk2"/>
    </dgm:fillClrLst>
    <dgm:linClrLst meth="repeat">
      <a:schemeClr val="dk2">
        <a:tint val="50000"/>
      </a:schemeClr>
    </dgm:linClrLst>
    <dgm:effectClrLst/>
    <dgm:txLinClrLst/>
    <dgm:txFillClrLst meth="repeat">
      <a:schemeClr val="lt2"/>
    </dgm:txFillClrLst>
    <dgm:txEffectClrLst/>
  </dgm:styleLbl>
  <dgm:styleLbl name="asst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parCh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 meth="repeat">
      <a:schemeClr val="lt2"/>
    </dgm:txFillClrLst>
    <dgm:txEffectClrLst/>
  </dgm:styleLbl>
  <dgm:styleLbl name="parChTrans2D2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3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4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1D1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2">
        <a:alpha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2">
        <a:tint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2">
        <a:shade val="8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2">
        <a:tint val="50000"/>
        <a:alpha val="4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2">
        <a:tint val="60000"/>
      </a:schemeClr>
    </dgm:fillClrLst>
    <dgm:linClrLst meth="repeat">
      <a:schemeClr val="lt2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2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CA35FE9-169F-4C5E-A343-03F57B73D76F}" type="doc">
      <dgm:prSet loTypeId="urn:microsoft.com/office/officeart/2008/layout/VerticalCurvedList" loCatId="list" qsTypeId="urn:microsoft.com/office/officeart/2005/8/quickstyle/simple2" qsCatId="simple" csTypeId="urn:microsoft.com/office/officeart/2005/8/colors/accent0_3" csCatId="mainScheme" phldr="1"/>
      <dgm:spPr/>
      <dgm:t>
        <a:bodyPr/>
        <a:lstStyle/>
        <a:p>
          <a:endParaRPr lang="en-US"/>
        </a:p>
      </dgm:t>
    </dgm:pt>
    <dgm:pt modelId="{049FFC21-1D09-414C-BFA4-43A19305AE9E}">
      <dgm:prSet phldrT="[Text]"/>
      <dgm:spPr/>
      <dgm:t>
        <a:bodyPr/>
        <a:lstStyle/>
        <a:p>
          <a:r>
            <a:rPr lang="en-GB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DASH profiles for using Common Media Application Format (CMAF) are added;</a:t>
          </a:r>
          <a:endParaRPr lang="en-US" dirty="0"/>
        </a:p>
      </dgm:t>
    </dgm:pt>
    <dgm:pt modelId="{5690D001-7857-429C-862B-97C731FBB1D9}" type="parTrans" cxnId="{516095D8-1356-4E15-A00E-EE8A4E84241F}">
      <dgm:prSet/>
      <dgm:spPr/>
      <dgm:t>
        <a:bodyPr/>
        <a:lstStyle/>
        <a:p>
          <a:endParaRPr lang="en-US"/>
        </a:p>
      </dgm:t>
    </dgm:pt>
    <dgm:pt modelId="{8BDAAC78-D8AF-4D7F-B93A-AF0588965B93}" type="sibTrans" cxnId="{516095D8-1356-4E15-A00E-EE8A4E84241F}">
      <dgm:prSet/>
      <dgm:spPr/>
      <dgm:t>
        <a:bodyPr/>
        <a:lstStyle/>
        <a:p>
          <a:endParaRPr lang="en-US"/>
        </a:p>
      </dgm:t>
    </dgm:pt>
    <dgm:pt modelId="{A6498831-9CEC-4704-8519-E645C63550ED}">
      <dgm:prSet/>
      <dgm:spPr/>
      <dgm:t>
        <a:bodyPr/>
        <a:lstStyle/>
        <a:p>
          <a:r>
            <a:rPr lang="en-GB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the concept Resynchronization is added in order to identify stream access points in Segments;</a:t>
          </a:r>
          <a:endParaRPr lang="en-US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gm:t>
    </dgm:pt>
    <dgm:pt modelId="{8055C47E-0AEB-421C-809F-B2DA5EC81DFC}" type="parTrans" cxnId="{9C67ECE5-5624-4D27-8DBF-599856BB321A}">
      <dgm:prSet/>
      <dgm:spPr/>
      <dgm:t>
        <a:bodyPr/>
        <a:lstStyle/>
        <a:p>
          <a:endParaRPr lang="en-US"/>
        </a:p>
      </dgm:t>
    </dgm:pt>
    <dgm:pt modelId="{F2098351-BB25-45B5-A553-A4FB1B150E21}" type="sibTrans" cxnId="{9C67ECE5-5624-4D27-8DBF-599856BB321A}">
      <dgm:prSet/>
      <dgm:spPr/>
      <dgm:t>
        <a:bodyPr/>
        <a:lstStyle/>
        <a:p>
          <a:endParaRPr lang="en-US"/>
        </a:p>
      </dgm:t>
    </dgm:pt>
    <dgm:pt modelId="{C9E93AE4-1C65-4072-8B02-BF0CFA39F93B}">
      <dgm:prSet/>
      <dgm:spPr/>
      <dgm:t>
        <a:bodyPr/>
        <a:lstStyle/>
        <a:p>
          <a:r>
            <a:rPr lang="en-GB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MPD patching is updated to support explicit MPD updates of smaller size, not only as </a:t>
          </a:r>
          <a:r>
            <a:rPr lang="en-GB" dirty="0" err="1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inband</a:t>
          </a:r>
          <a:r>
            <a:rPr lang="en-GB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 messages;</a:t>
          </a:r>
          <a:endParaRPr lang="en-US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gm:t>
    </dgm:pt>
    <dgm:pt modelId="{EDCAA810-31FD-4317-8593-23E12BB92EA4}" type="parTrans" cxnId="{A7921B4F-1226-4D92-AB1F-E7D07D671B65}">
      <dgm:prSet/>
      <dgm:spPr/>
      <dgm:t>
        <a:bodyPr/>
        <a:lstStyle/>
        <a:p>
          <a:endParaRPr lang="en-US"/>
        </a:p>
      </dgm:t>
    </dgm:pt>
    <dgm:pt modelId="{829E5B46-3BD5-4892-821F-794E51348EB0}" type="sibTrans" cxnId="{A7921B4F-1226-4D92-AB1F-E7D07D671B65}">
      <dgm:prSet/>
      <dgm:spPr/>
      <dgm:t>
        <a:bodyPr/>
        <a:lstStyle/>
        <a:p>
          <a:endParaRPr lang="en-US"/>
        </a:p>
      </dgm:t>
    </dgm:pt>
    <dgm:pt modelId="{AEF62DCB-42C1-4283-8CE2-528398EFB982}">
      <dgm:prSet/>
      <dgm:spPr/>
      <dgm:t>
        <a:bodyPr/>
        <a:lstStyle/>
        <a:p>
          <a:r>
            <a:rPr lang="en-GB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a client processing model for Event Streams and Timed Metadata tracks is introduced;</a:t>
          </a:r>
          <a:endParaRPr lang="en-US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gm:t>
    </dgm:pt>
    <dgm:pt modelId="{4CEB96BE-96BE-4483-9CA4-A787DAF8DEF3}" type="parTrans" cxnId="{2AE4036B-C0BE-4FB5-A576-C5532F633419}">
      <dgm:prSet/>
      <dgm:spPr/>
      <dgm:t>
        <a:bodyPr/>
        <a:lstStyle/>
        <a:p>
          <a:endParaRPr lang="en-US"/>
        </a:p>
      </dgm:t>
    </dgm:pt>
    <dgm:pt modelId="{3D0E9A4D-6F2E-42E8-85B0-1E60B664822A}" type="sibTrans" cxnId="{2AE4036B-C0BE-4FB5-A576-C5532F633419}">
      <dgm:prSet/>
      <dgm:spPr/>
      <dgm:t>
        <a:bodyPr/>
        <a:lstStyle/>
        <a:p>
          <a:endParaRPr lang="en-US"/>
        </a:p>
      </dgm:t>
    </dgm:pt>
    <dgm:pt modelId="{D650E422-A2CB-4F45-B5F0-FF69DF3F6408}">
      <dgm:prSet/>
      <dgm:spPr/>
      <dgm:t>
        <a:bodyPr/>
        <a:lstStyle/>
        <a:p>
          <a:r>
            <a:rPr lang="en-GB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Extensions are added to content protection for efficient signalling and to support robustness levels.</a:t>
          </a:r>
          <a:endParaRPr lang="en-US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gm:t>
    </dgm:pt>
    <dgm:pt modelId="{AD41704A-DF1C-4CA8-A6B0-E30E6A5194F7}" type="parTrans" cxnId="{A0A82C74-3E61-4278-A0E9-7E2C553DFE12}">
      <dgm:prSet/>
      <dgm:spPr/>
      <dgm:t>
        <a:bodyPr/>
        <a:lstStyle/>
        <a:p>
          <a:endParaRPr lang="en-US"/>
        </a:p>
      </dgm:t>
    </dgm:pt>
    <dgm:pt modelId="{A3C17B81-9EA8-4031-BDEA-864F3BE03EDE}" type="sibTrans" cxnId="{A0A82C74-3E61-4278-A0E9-7E2C553DFE12}">
      <dgm:prSet/>
      <dgm:spPr/>
      <dgm:t>
        <a:bodyPr/>
        <a:lstStyle/>
        <a:p>
          <a:endParaRPr lang="en-US"/>
        </a:p>
      </dgm:t>
    </dgm:pt>
    <dgm:pt modelId="{198D1F79-52F1-47B2-8C9E-B9706AEA803E}">
      <dgm:prSet/>
      <dgm:spPr/>
      <dgm:t>
        <a:bodyPr/>
        <a:lstStyle/>
        <a:p>
          <a:r>
            <a:rPr lang="en-GB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A descriptor is added in order to describe the minimum required device output protection security.</a:t>
          </a:r>
          <a:endParaRPr lang="en-US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gm:t>
    </dgm:pt>
    <dgm:pt modelId="{026801E3-C493-478B-9E09-AD00DBEED61E}" type="parTrans" cxnId="{A9C7561E-7FFB-41E2-BA9E-CA5E850B0920}">
      <dgm:prSet/>
      <dgm:spPr/>
      <dgm:t>
        <a:bodyPr/>
        <a:lstStyle/>
        <a:p>
          <a:endParaRPr lang="en-US"/>
        </a:p>
      </dgm:t>
    </dgm:pt>
    <dgm:pt modelId="{467A1021-4B17-4FF9-B175-6EA0530CBBAC}" type="sibTrans" cxnId="{A9C7561E-7FFB-41E2-BA9E-CA5E850B0920}">
      <dgm:prSet/>
      <dgm:spPr/>
      <dgm:t>
        <a:bodyPr/>
        <a:lstStyle/>
        <a:p>
          <a:endParaRPr lang="en-US"/>
        </a:p>
      </dgm:t>
    </dgm:pt>
    <dgm:pt modelId="{F75A2F4F-0723-4CB5-A83C-1AA11828D47F}">
      <dgm:prSet/>
      <dgm:spPr/>
      <dgm:t>
        <a:bodyPr/>
        <a:lstStyle/>
        <a:p>
          <a:r>
            <a:rPr lang="en-GB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More flexible bandwidth signalling is provided to signal variable bitrate encoding.</a:t>
          </a:r>
          <a:endParaRPr lang="en-US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gm:t>
    </dgm:pt>
    <dgm:pt modelId="{C50A6ADF-92B3-4617-AEB8-D289440B0EFA}" type="parTrans" cxnId="{5068E9AC-6E52-44A4-88EE-FD44B10CE301}">
      <dgm:prSet/>
      <dgm:spPr/>
      <dgm:t>
        <a:bodyPr/>
        <a:lstStyle/>
        <a:p>
          <a:endParaRPr lang="en-US"/>
        </a:p>
      </dgm:t>
    </dgm:pt>
    <dgm:pt modelId="{2CF387F3-9218-4E38-A879-667B874DB9FA}" type="sibTrans" cxnId="{5068E9AC-6E52-44A4-88EE-FD44B10CE301}">
      <dgm:prSet/>
      <dgm:spPr/>
      <dgm:t>
        <a:bodyPr/>
        <a:lstStyle/>
        <a:p>
          <a:endParaRPr lang="en-US"/>
        </a:p>
      </dgm:t>
    </dgm:pt>
    <dgm:pt modelId="{47AED27A-E4E3-4EB1-923E-A8ACCB18B2C4}" type="pres">
      <dgm:prSet presAssocID="{1CA35FE9-169F-4C5E-A343-03F57B73D76F}" presName="Name0" presStyleCnt="0">
        <dgm:presLayoutVars>
          <dgm:chMax val="7"/>
          <dgm:chPref val="7"/>
          <dgm:dir/>
        </dgm:presLayoutVars>
      </dgm:prSet>
      <dgm:spPr/>
    </dgm:pt>
    <dgm:pt modelId="{BDA0072C-616C-43A5-AFC7-DD9052462782}" type="pres">
      <dgm:prSet presAssocID="{1CA35FE9-169F-4C5E-A343-03F57B73D76F}" presName="Name1" presStyleCnt="0"/>
      <dgm:spPr/>
    </dgm:pt>
    <dgm:pt modelId="{A970BF66-8F99-48E7-BA80-D9B90F86B87B}" type="pres">
      <dgm:prSet presAssocID="{1CA35FE9-169F-4C5E-A343-03F57B73D76F}" presName="cycle" presStyleCnt="0"/>
      <dgm:spPr/>
    </dgm:pt>
    <dgm:pt modelId="{BEAFC175-9D84-4CDC-A190-09918B8B2CBA}" type="pres">
      <dgm:prSet presAssocID="{1CA35FE9-169F-4C5E-A343-03F57B73D76F}" presName="srcNode" presStyleLbl="node1" presStyleIdx="0" presStyleCnt="7"/>
      <dgm:spPr/>
    </dgm:pt>
    <dgm:pt modelId="{B2DF5921-51E1-4116-9D71-48290C670414}" type="pres">
      <dgm:prSet presAssocID="{1CA35FE9-169F-4C5E-A343-03F57B73D76F}" presName="conn" presStyleLbl="parChTrans1D2" presStyleIdx="0" presStyleCnt="1"/>
      <dgm:spPr/>
    </dgm:pt>
    <dgm:pt modelId="{3D14D07B-7D2C-4290-BE0E-C29D648521EF}" type="pres">
      <dgm:prSet presAssocID="{1CA35FE9-169F-4C5E-A343-03F57B73D76F}" presName="extraNode" presStyleLbl="node1" presStyleIdx="0" presStyleCnt="7"/>
      <dgm:spPr/>
    </dgm:pt>
    <dgm:pt modelId="{4DB66940-A4F3-499C-94D1-B7776F8AC260}" type="pres">
      <dgm:prSet presAssocID="{1CA35FE9-169F-4C5E-A343-03F57B73D76F}" presName="dstNode" presStyleLbl="node1" presStyleIdx="0" presStyleCnt="7"/>
      <dgm:spPr/>
    </dgm:pt>
    <dgm:pt modelId="{D094BDC7-4D03-4A4C-B31A-37983C5D6267}" type="pres">
      <dgm:prSet presAssocID="{049FFC21-1D09-414C-BFA4-43A19305AE9E}" presName="text_1" presStyleLbl="node1" presStyleIdx="0" presStyleCnt="7">
        <dgm:presLayoutVars>
          <dgm:bulletEnabled val="1"/>
        </dgm:presLayoutVars>
      </dgm:prSet>
      <dgm:spPr/>
    </dgm:pt>
    <dgm:pt modelId="{0B6C0579-0CFE-4ED6-A319-68F59B2C77AC}" type="pres">
      <dgm:prSet presAssocID="{049FFC21-1D09-414C-BFA4-43A19305AE9E}" presName="accent_1" presStyleCnt="0"/>
      <dgm:spPr/>
    </dgm:pt>
    <dgm:pt modelId="{A6C796EE-92B7-41BA-82B2-BD4D764DAB71}" type="pres">
      <dgm:prSet presAssocID="{049FFC21-1D09-414C-BFA4-43A19305AE9E}" presName="accentRepeatNode" presStyleLbl="solidFgAcc1" presStyleIdx="0" presStyleCnt="7"/>
      <dgm:spPr/>
    </dgm:pt>
    <dgm:pt modelId="{580CDDCE-E0D1-423C-8061-92F5AFA6EC6F}" type="pres">
      <dgm:prSet presAssocID="{A6498831-9CEC-4704-8519-E645C63550ED}" presName="text_2" presStyleLbl="node1" presStyleIdx="1" presStyleCnt="7">
        <dgm:presLayoutVars>
          <dgm:bulletEnabled val="1"/>
        </dgm:presLayoutVars>
      </dgm:prSet>
      <dgm:spPr/>
    </dgm:pt>
    <dgm:pt modelId="{5BFDC213-532B-4438-9DB3-E32C4D4BFA74}" type="pres">
      <dgm:prSet presAssocID="{A6498831-9CEC-4704-8519-E645C63550ED}" presName="accent_2" presStyleCnt="0"/>
      <dgm:spPr/>
    </dgm:pt>
    <dgm:pt modelId="{37D7BEA0-1139-4691-BB04-3F7CF480FF7B}" type="pres">
      <dgm:prSet presAssocID="{A6498831-9CEC-4704-8519-E645C63550ED}" presName="accentRepeatNode" presStyleLbl="solidFgAcc1" presStyleIdx="1" presStyleCnt="7"/>
      <dgm:spPr/>
    </dgm:pt>
    <dgm:pt modelId="{E3ECF996-23AC-4583-A2F7-B53047622E34}" type="pres">
      <dgm:prSet presAssocID="{C9E93AE4-1C65-4072-8B02-BF0CFA39F93B}" presName="text_3" presStyleLbl="node1" presStyleIdx="2" presStyleCnt="7">
        <dgm:presLayoutVars>
          <dgm:bulletEnabled val="1"/>
        </dgm:presLayoutVars>
      </dgm:prSet>
      <dgm:spPr/>
    </dgm:pt>
    <dgm:pt modelId="{3FBB0A0B-15EA-405A-8205-6CE572654F77}" type="pres">
      <dgm:prSet presAssocID="{C9E93AE4-1C65-4072-8B02-BF0CFA39F93B}" presName="accent_3" presStyleCnt="0"/>
      <dgm:spPr/>
    </dgm:pt>
    <dgm:pt modelId="{040157C9-BB4C-4EF5-BE39-40B568F19A45}" type="pres">
      <dgm:prSet presAssocID="{C9E93AE4-1C65-4072-8B02-BF0CFA39F93B}" presName="accentRepeatNode" presStyleLbl="solidFgAcc1" presStyleIdx="2" presStyleCnt="7"/>
      <dgm:spPr/>
    </dgm:pt>
    <dgm:pt modelId="{1C54ED93-B5D6-4887-8433-AAEAC92D1D58}" type="pres">
      <dgm:prSet presAssocID="{AEF62DCB-42C1-4283-8CE2-528398EFB982}" presName="text_4" presStyleLbl="node1" presStyleIdx="3" presStyleCnt="7">
        <dgm:presLayoutVars>
          <dgm:bulletEnabled val="1"/>
        </dgm:presLayoutVars>
      </dgm:prSet>
      <dgm:spPr/>
    </dgm:pt>
    <dgm:pt modelId="{4E331B7C-EAB8-4152-AD14-9E829E31C5B7}" type="pres">
      <dgm:prSet presAssocID="{AEF62DCB-42C1-4283-8CE2-528398EFB982}" presName="accent_4" presStyleCnt="0"/>
      <dgm:spPr/>
    </dgm:pt>
    <dgm:pt modelId="{6ECF6B81-98DE-4552-ADAC-76F0E219C109}" type="pres">
      <dgm:prSet presAssocID="{AEF62DCB-42C1-4283-8CE2-528398EFB982}" presName="accentRepeatNode" presStyleLbl="solidFgAcc1" presStyleIdx="3" presStyleCnt="7"/>
      <dgm:spPr/>
    </dgm:pt>
    <dgm:pt modelId="{7CEC09D0-0666-42ED-BC30-C01BE013D23C}" type="pres">
      <dgm:prSet presAssocID="{D650E422-A2CB-4F45-B5F0-FF69DF3F6408}" presName="text_5" presStyleLbl="node1" presStyleIdx="4" presStyleCnt="7">
        <dgm:presLayoutVars>
          <dgm:bulletEnabled val="1"/>
        </dgm:presLayoutVars>
      </dgm:prSet>
      <dgm:spPr/>
    </dgm:pt>
    <dgm:pt modelId="{6C8EDA41-78C3-4A86-B657-6A9635B6AC37}" type="pres">
      <dgm:prSet presAssocID="{D650E422-A2CB-4F45-B5F0-FF69DF3F6408}" presName="accent_5" presStyleCnt="0"/>
      <dgm:spPr/>
    </dgm:pt>
    <dgm:pt modelId="{633BC56D-5693-43AD-941D-1C7E3E5DAD9C}" type="pres">
      <dgm:prSet presAssocID="{D650E422-A2CB-4F45-B5F0-FF69DF3F6408}" presName="accentRepeatNode" presStyleLbl="solidFgAcc1" presStyleIdx="4" presStyleCnt="7"/>
      <dgm:spPr/>
    </dgm:pt>
    <dgm:pt modelId="{D9BA19E2-1A51-4D0C-9F1A-6552690CE7A5}" type="pres">
      <dgm:prSet presAssocID="{198D1F79-52F1-47B2-8C9E-B9706AEA803E}" presName="text_6" presStyleLbl="node1" presStyleIdx="5" presStyleCnt="7">
        <dgm:presLayoutVars>
          <dgm:bulletEnabled val="1"/>
        </dgm:presLayoutVars>
      </dgm:prSet>
      <dgm:spPr/>
    </dgm:pt>
    <dgm:pt modelId="{AB07DBDC-3719-4543-9627-E54D7F537A49}" type="pres">
      <dgm:prSet presAssocID="{198D1F79-52F1-47B2-8C9E-B9706AEA803E}" presName="accent_6" presStyleCnt="0"/>
      <dgm:spPr/>
    </dgm:pt>
    <dgm:pt modelId="{B0159868-2044-4577-BDC8-ECEB872AA5B0}" type="pres">
      <dgm:prSet presAssocID="{198D1F79-52F1-47B2-8C9E-B9706AEA803E}" presName="accentRepeatNode" presStyleLbl="solidFgAcc1" presStyleIdx="5" presStyleCnt="7"/>
      <dgm:spPr/>
    </dgm:pt>
    <dgm:pt modelId="{07606088-20ED-4C6F-9815-084DD6033E9E}" type="pres">
      <dgm:prSet presAssocID="{F75A2F4F-0723-4CB5-A83C-1AA11828D47F}" presName="text_7" presStyleLbl="node1" presStyleIdx="6" presStyleCnt="7">
        <dgm:presLayoutVars>
          <dgm:bulletEnabled val="1"/>
        </dgm:presLayoutVars>
      </dgm:prSet>
      <dgm:spPr/>
    </dgm:pt>
    <dgm:pt modelId="{044E63A2-4380-4F43-8E22-07522FEB5CE3}" type="pres">
      <dgm:prSet presAssocID="{F75A2F4F-0723-4CB5-A83C-1AA11828D47F}" presName="accent_7" presStyleCnt="0"/>
      <dgm:spPr/>
    </dgm:pt>
    <dgm:pt modelId="{580AA07A-67FC-4C13-943C-7243BADF17B0}" type="pres">
      <dgm:prSet presAssocID="{F75A2F4F-0723-4CB5-A83C-1AA11828D47F}" presName="accentRepeatNode" presStyleLbl="solidFgAcc1" presStyleIdx="6" presStyleCnt="7"/>
      <dgm:spPr/>
    </dgm:pt>
  </dgm:ptLst>
  <dgm:cxnLst>
    <dgm:cxn modelId="{AF7B5502-1339-49BD-B5D0-CA4CD7DC3C38}" type="presOf" srcId="{A6498831-9CEC-4704-8519-E645C63550ED}" destId="{580CDDCE-E0D1-423C-8061-92F5AFA6EC6F}" srcOrd="0" destOrd="0" presId="urn:microsoft.com/office/officeart/2008/layout/VerticalCurvedList"/>
    <dgm:cxn modelId="{80BB9003-FCEC-4346-A56D-14D8B08A735B}" type="presOf" srcId="{F75A2F4F-0723-4CB5-A83C-1AA11828D47F}" destId="{07606088-20ED-4C6F-9815-084DD6033E9E}" srcOrd="0" destOrd="0" presId="urn:microsoft.com/office/officeart/2008/layout/VerticalCurvedList"/>
    <dgm:cxn modelId="{B3335C0A-0949-4BF2-BB6C-5822E225B40A}" type="presOf" srcId="{1CA35FE9-169F-4C5E-A343-03F57B73D76F}" destId="{47AED27A-E4E3-4EB1-923E-A8ACCB18B2C4}" srcOrd="0" destOrd="0" presId="urn:microsoft.com/office/officeart/2008/layout/VerticalCurvedList"/>
    <dgm:cxn modelId="{A9C7561E-7FFB-41E2-BA9E-CA5E850B0920}" srcId="{1CA35FE9-169F-4C5E-A343-03F57B73D76F}" destId="{198D1F79-52F1-47B2-8C9E-B9706AEA803E}" srcOrd="5" destOrd="0" parTransId="{026801E3-C493-478B-9E09-AD00DBEED61E}" sibTransId="{467A1021-4B17-4FF9-B175-6EA0530CBBAC}"/>
    <dgm:cxn modelId="{2AE4036B-C0BE-4FB5-A576-C5532F633419}" srcId="{1CA35FE9-169F-4C5E-A343-03F57B73D76F}" destId="{AEF62DCB-42C1-4283-8CE2-528398EFB982}" srcOrd="3" destOrd="0" parTransId="{4CEB96BE-96BE-4483-9CA4-A787DAF8DEF3}" sibTransId="{3D0E9A4D-6F2E-42E8-85B0-1E60B664822A}"/>
    <dgm:cxn modelId="{A7921B4F-1226-4D92-AB1F-E7D07D671B65}" srcId="{1CA35FE9-169F-4C5E-A343-03F57B73D76F}" destId="{C9E93AE4-1C65-4072-8B02-BF0CFA39F93B}" srcOrd="2" destOrd="0" parTransId="{EDCAA810-31FD-4317-8593-23E12BB92EA4}" sibTransId="{829E5B46-3BD5-4892-821F-794E51348EB0}"/>
    <dgm:cxn modelId="{A0A82C74-3E61-4278-A0E9-7E2C553DFE12}" srcId="{1CA35FE9-169F-4C5E-A343-03F57B73D76F}" destId="{D650E422-A2CB-4F45-B5F0-FF69DF3F6408}" srcOrd="4" destOrd="0" parTransId="{AD41704A-DF1C-4CA8-A6B0-E30E6A5194F7}" sibTransId="{A3C17B81-9EA8-4031-BDEA-864F3BE03EDE}"/>
    <dgm:cxn modelId="{0DB0C286-07BC-4A2E-BDF8-1652B8D6DE88}" type="presOf" srcId="{C9E93AE4-1C65-4072-8B02-BF0CFA39F93B}" destId="{E3ECF996-23AC-4583-A2F7-B53047622E34}" srcOrd="0" destOrd="0" presId="urn:microsoft.com/office/officeart/2008/layout/VerticalCurvedList"/>
    <dgm:cxn modelId="{5068E9AC-6E52-44A4-88EE-FD44B10CE301}" srcId="{1CA35FE9-169F-4C5E-A343-03F57B73D76F}" destId="{F75A2F4F-0723-4CB5-A83C-1AA11828D47F}" srcOrd="6" destOrd="0" parTransId="{C50A6ADF-92B3-4617-AEB8-D289440B0EFA}" sibTransId="{2CF387F3-9218-4E38-A879-667B874DB9FA}"/>
    <dgm:cxn modelId="{B63C2ABB-337A-41A6-8C0B-68AE7C1D7871}" type="presOf" srcId="{049FFC21-1D09-414C-BFA4-43A19305AE9E}" destId="{D094BDC7-4D03-4A4C-B31A-37983C5D6267}" srcOrd="0" destOrd="0" presId="urn:microsoft.com/office/officeart/2008/layout/VerticalCurvedList"/>
    <dgm:cxn modelId="{4F0B12BD-09A0-4086-8B35-4B0526D53E15}" type="presOf" srcId="{198D1F79-52F1-47B2-8C9E-B9706AEA803E}" destId="{D9BA19E2-1A51-4D0C-9F1A-6552690CE7A5}" srcOrd="0" destOrd="0" presId="urn:microsoft.com/office/officeart/2008/layout/VerticalCurvedList"/>
    <dgm:cxn modelId="{293297BD-2969-421E-9C8F-F652940131CE}" type="presOf" srcId="{D650E422-A2CB-4F45-B5F0-FF69DF3F6408}" destId="{7CEC09D0-0666-42ED-BC30-C01BE013D23C}" srcOrd="0" destOrd="0" presId="urn:microsoft.com/office/officeart/2008/layout/VerticalCurvedList"/>
    <dgm:cxn modelId="{543CBDBD-592E-4732-9439-3E95FB4541D3}" type="presOf" srcId="{AEF62DCB-42C1-4283-8CE2-528398EFB982}" destId="{1C54ED93-B5D6-4887-8433-AAEAC92D1D58}" srcOrd="0" destOrd="0" presId="urn:microsoft.com/office/officeart/2008/layout/VerticalCurvedList"/>
    <dgm:cxn modelId="{A87B97C9-D283-40DA-9EE6-3D8DD882D5F7}" type="presOf" srcId="{8BDAAC78-D8AF-4D7F-B93A-AF0588965B93}" destId="{B2DF5921-51E1-4116-9D71-48290C670414}" srcOrd="0" destOrd="0" presId="urn:microsoft.com/office/officeart/2008/layout/VerticalCurvedList"/>
    <dgm:cxn modelId="{516095D8-1356-4E15-A00E-EE8A4E84241F}" srcId="{1CA35FE9-169F-4C5E-A343-03F57B73D76F}" destId="{049FFC21-1D09-414C-BFA4-43A19305AE9E}" srcOrd="0" destOrd="0" parTransId="{5690D001-7857-429C-862B-97C731FBB1D9}" sibTransId="{8BDAAC78-D8AF-4D7F-B93A-AF0588965B93}"/>
    <dgm:cxn modelId="{9C67ECE5-5624-4D27-8DBF-599856BB321A}" srcId="{1CA35FE9-169F-4C5E-A343-03F57B73D76F}" destId="{A6498831-9CEC-4704-8519-E645C63550ED}" srcOrd="1" destOrd="0" parTransId="{8055C47E-0AEB-421C-809F-B2DA5EC81DFC}" sibTransId="{F2098351-BB25-45B5-A553-A4FB1B150E21}"/>
    <dgm:cxn modelId="{E33CAF31-75A5-4AED-9A5D-C4947C86D425}" type="presParOf" srcId="{47AED27A-E4E3-4EB1-923E-A8ACCB18B2C4}" destId="{BDA0072C-616C-43A5-AFC7-DD9052462782}" srcOrd="0" destOrd="0" presId="urn:microsoft.com/office/officeart/2008/layout/VerticalCurvedList"/>
    <dgm:cxn modelId="{388FC2A8-38FD-48BA-B2B0-0AA8E59B30DA}" type="presParOf" srcId="{BDA0072C-616C-43A5-AFC7-DD9052462782}" destId="{A970BF66-8F99-48E7-BA80-D9B90F86B87B}" srcOrd="0" destOrd="0" presId="urn:microsoft.com/office/officeart/2008/layout/VerticalCurvedList"/>
    <dgm:cxn modelId="{E18BA0B1-AA01-4DE8-8E4A-5E04E617C19B}" type="presParOf" srcId="{A970BF66-8F99-48E7-BA80-D9B90F86B87B}" destId="{BEAFC175-9D84-4CDC-A190-09918B8B2CBA}" srcOrd="0" destOrd="0" presId="urn:microsoft.com/office/officeart/2008/layout/VerticalCurvedList"/>
    <dgm:cxn modelId="{52FE3361-0E62-4716-8C10-9F89D9882C6F}" type="presParOf" srcId="{A970BF66-8F99-48E7-BA80-D9B90F86B87B}" destId="{B2DF5921-51E1-4116-9D71-48290C670414}" srcOrd="1" destOrd="0" presId="urn:microsoft.com/office/officeart/2008/layout/VerticalCurvedList"/>
    <dgm:cxn modelId="{37978919-D971-431D-988D-43B6A55717BE}" type="presParOf" srcId="{A970BF66-8F99-48E7-BA80-D9B90F86B87B}" destId="{3D14D07B-7D2C-4290-BE0E-C29D648521EF}" srcOrd="2" destOrd="0" presId="urn:microsoft.com/office/officeart/2008/layout/VerticalCurvedList"/>
    <dgm:cxn modelId="{AC88D705-1115-44FB-A7A6-A638F34CAF00}" type="presParOf" srcId="{A970BF66-8F99-48E7-BA80-D9B90F86B87B}" destId="{4DB66940-A4F3-499C-94D1-B7776F8AC260}" srcOrd="3" destOrd="0" presId="urn:microsoft.com/office/officeart/2008/layout/VerticalCurvedList"/>
    <dgm:cxn modelId="{46A4C2B4-A8C5-451E-B598-C9C98EA80CFE}" type="presParOf" srcId="{BDA0072C-616C-43A5-AFC7-DD9052462782}" destId="{D094BDC7-4D03-4A4C-B31A-37983C5D6267}" srcOrd="1" destOrd="0" presId="urn:microsoft.com/office/officeart/2008/layout/VerticalCurvedList"/>
    <dgm:cxn modelId="{250EA204-266C-455A-967E-F8EE7A32CF63}" type="presParOf" srcId="{BDA0072C-616C-43A5-AFC7-DD9052462782}" destId="{0B6C0579-0CFE-4ED6-A319-68F59B2C77AC}" srcOrd="2" destOrd="0" presId="urn:microsoft.com/office/officeart/2008/layout/VerticalCurvedList"/>
    <dgm:cxn modelId="{EA68293F-C14A-4F3E-879A-4FF6D940B7FB}" type="presParOf" srcId="{0B6C0579-0CFE-4ED6-A319-68F59B2C77AC}" destId="{A6C796EE-92B7-41BA-82B2-BD4D764DAB71}" srcOrd="0" destOrd="0" presId="urn:microsoft.com/office/officeart/2008/layout/VerticalCurvedList"/>
    <dgm:cxn modelId="{B732BEFE-9A97-42EC-B3DA-CE11705C7C8A}" type="presParOf" srcId="{BDA0072C-616C-43A5-AFC7-DD9052462782}" destId="{580CDDCE-E0D1-423C-8061-92F5AFA6EC6F}" srcOrd="3" destOrd="0" presId="urn:microsoft.com/office/officeart/2008/layout/VerticalCurvedList"/>
    <dgm:cxn modelId="{2E47619D-E09E-4811-A4CD-7F0F41A0888A}" type="presParOf" srcId="{BDA0072C-616C-43A5-AFC7-DD9052462782}" destId="{5BFDC213-532B-4438-9DB3-E32C4D4BFA74}" srcOrd="4" destOrd="0" presId="urn:microsoft.com/office/officeart/2008/layout/VerticalCurvedList"/>
    <dgm:cxn modelId="{0109C3B6-5D61-44F2-A047-1228F99B64D7}" type="presParOf" srcId="{5BFDC213-532B-4438-9DB3-E32C4D4BFA74}" destId="{37D7BEA0-1139-4691-BB04-3F7CF480FF7B}" srcOrd="0" destOrd="0" presId="urn:microsoft.com/office/officeart/2008/layout/VerticalCurvedList"/>
    <dgm:cxn modelId="{CEAB27C5-6E11-45C1-9A77-1048B181654C}" type="presParOf" srcId="{BDA0072C-616C-43A5-AFC7-DD9052462782}" destId="{E3ECF996-23AC-4583-A2F7-B53047622E34}" srcOrd="5" destOrd="0" presId="urn:microsoft.com/office/officeart/2008/layout/VerticalCurvedList"/>
    <dgm:cxn modelId="{87B9E4B7-5695-41DC-B68E-41D7A953FDAC}" type="presParOf" srcId="{BDA0072C-616C-43A5-AFC7-DD9052462782}" destId="{3FBB0A0B-15EA-405A-8205-6CE572654F77}" srcOrd="6" destOrd="0" presId="urn:microsoft.com/office/officeart/2008/layout/VerticalCurvedList"/>
    <dgm:cxn modelId="{E02EEE84-A28A-46E3-934A-6E073B6AE922}" type="presParOf" srcId="{3FBB0A0B-15EA-405A-8205-6CE572654F77}" destId="{040157C9-BB4C-4EF5-BE39-40B568F19A45}" srcOrd="0" destOrd="0" presId="urn:microsoft.com/office/officeart/2008/layout/VerticalCurvedList"/>
    <dgm:cxn modelId="{152D2125-11B0-4F17-B34F-6C9B6DAB2A56}" type="presParOf" srcId="{BDA0072C-616C-43A5-AFC7-DD9052462782}" destId="{1C54ED93-B5D6-4887-8433-AAEAC92D1D58}" srcOrd="7" destOrd="0" presId="urn:microsoft.com/office/officeart/2008/layout/VerticalCurvedList"/>
    <dgm:cxn modelId="{1AFB4F2C-0679-4CBD-B7BC-7F7D39A6A018}" type="presParOf" srcId="{BDA0072C-616C-43A5-AFC7-DD9052462782}" destId="{4E331B7C-EAB8-4152-AD14-9E829E31C5B7}" srcOrd="8" destOrd="0" presId="urn:microsoft.com/office/officeart/2008/layout/VerticalCurvedList"/>
    <dgm:cxn modelId="{32246BAA-543F-4E69-A7DE-4905A0748A52}" type="presParOf" srcId="{4E331B7C-EAB8-4152-AD14-9E829E31C5B7}" destId="{6ECF6B81-98DE-4552-ADAC-76F0E219C109}" srcOrd="0" destOrd="0" presId="urn:microsoft.com/office/officeart/2008/layout/VerticalCurvedList"/>
    <dgm:cxn modelId="{DBA021E3-E739-40D6-81EE-D0BC0E00F046}" type="presParOf" srcId="{BDA0072C-616C-43A5-AFC7-DD9052462782}" destId="{7CEC09D0-0666-42ED-BC30-C01BE013D23C}" srcOrd="9" destOrd="0" presId="urn:microsoft.com/office/officeart/2008/layout/VerticalCurvedList"/>
    <dgm:cxn modelId="{5501F36E-421C-4B9E-9430-92EFD9D57266}" type="presParOf" srcId="{BDA0072C-616C-43A5-AFC7-DD9052462782}" destId="{6C8EDA41-78C3-4A86-B657-6A9635B6AC37}" srcOrd="10" destOrd="0" presId="urn:microsoft.com/office/officeart/2008/layout/VerticalCurvedList"/>
    <dgm:cxn modelId="{61C1DDFE-928E-4C05-BB3C-192FFC916E1B}" type="presParOf" srcId="{6C8EDA41-78C3-4A86-B657-6A9635B6AC37}" destId="{633BC56D-5693-43AD-941D-1C7E3E5DAD9C}" srcOrd="0" destOrd="0" presId="urn:microsoft.com/office/officeart/2008/layout/VerticalCurvedList"/>
    <dgm:cxn modelId="{2CBD8D73-6B45-4A6C-830E-8634D356DD26}" type="presParOf" srcId="{BDA0072C-616C-43A5-AFC7-DD9052462782}" destId="{D9BA19E2-1A51-4D0C-9F1A-6552690CE7A5}" srcOrd="11" destOrd="0" presId="urn:microsoft.com/office/officeart/2008/layout/VerticalCurvedList"/>
    <dgm:cxn modelId="{F7CAA33A-8852-431E-8217-C79AABD93FAD}" type="presParOf" srcId="{BDA0072C-616C-43A5-AFC7-DD9052462782}" destId="{AB07DBDC-3719-4543-9627-E54D7F537A49}" srcOrd="12" destOrd="0" presId="urn:microsoft.com/office/officeart/2008/layout/VerticalCurvedList"/>
    <dgm:cxn modelId="{8778108A-DDD3-4593-961A-725F8E70336F}" type="presParOf" srcId="{AB07DBDC-3719-4543-9627-E54D7F537A49}" destId="{B0159868-2044-4577-BDC8-ECEB872AA5B0}" srcOrd="0" destOrd="0" presId="urn:microsoft.com/office/officeart/2008/layout/VerticalCurvedList"/>
    <dgm:cxn modelId="{2BAC69E4-1662-4A94-943D-E2317DDF587A}" type="presParOf" srcId="{BDA0072C-616C-43A5-AFC7-DD9052462782}" destId="{07606088-20ED-4C6F-9815-084DD6033E9E}" srcOrd="13" destOrd="0" presId="urn:microsoft.com/office/officeart/2008/layout/VerticalCurvedList"/>
    <dgm:cxn modelId="{C95F7256-0069-4804-92AB-DDCABEBF9F63}" type="presParOf" srcId="{BDA0072C-616C-43A5-AFC7-DD9052462782}" destId="{044E63A2-4380-4F43-8E22-07522FEB5CE3}" srcOrd="14" destOrd="0" presId="urn:microsoft.com/office/officeart/2008/layout/VerticalCurvedList"/>
    <dgm:cxn modelId="{3386BD19-54D1-412D-95A7-4C1F1336411D}" type="presParOf" srcId="{044E63A2-4380-4F43-8E22-07522FEB5CE3}" destId="{580AA07A-67FC-4C13-943C-7243BADF17B0}" srcOrd="0" destOrd="0" presId="urn:microsoft.com/office/officeart/2008/layout/VerticalCurvedList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D76429CC-182A-4EA2-97C3-EC4445D0047C}" type="doc">
      <dgm:prSet loTypeId="urn:microsoft.com/office/officeart/2005/8/layout/list1" loCatId="list" qsTypeId="urn:microsoft.com/office/officeart/2005/8/quickstyle/simple1" qsCatId="simple" csTypeId="urn:microsoft.com/office/officeart/2005/8/colors/accent0_3" csCatId="mainScheme" phldr="1"/>
      <dgm:spPr/>
      <dgm:t>
        <a:bodyPr/>
        <a:lstStyle/>
        <a:p>
          <a:endParaRPr lang="en-US"/>
        </a:p>
      </dgm:t>
    </dgm:pt>
    <dgm:pt modelId="{A5883B76-DD7A-455B-9532-274F88E6947D}">
      <dgm:prSet phldrT="[Text]" custT="1"/>
      <dgm:spPr/>
      <dgm:t>
        <a:bodyPr/>
        <a:lstStyle/>
        <a:p>
          <a:r>
            <a:rPr lang="en-US" sz="1600" b="1" dirty="0"/>
            <a:t>Alternative MPD Events for Client Side/Server Guided Ad Insertion</a:t>
          </a:r>
        </a:p>
      </dgm:t>
    </dgm:pt>
    <dgm:pt modelId="{7AC7B45B-FB0F-415F-AE1D-50E54927F565}" type="parTrans" cxnId="{8ABAE23E-5524-49A6-A89C-C5CA3F7FE00E}">
      <dgm:prSet/>
      <dgm:spPr/>
      <dgm:t>
        <a:bodyPr/>
        <a:lstStyle/>
        <a:p>
          <a:endParaRPr lang="en-US" sz="2400"/>
        </a:p>
      </dgm:t>
    </dgm:pt>
    <dgm:pt modelId="{21563A75-D3D5-4A18-8F43-9636A2DDF69D}" type="sibTrans" cxnId="{8ABAE23E-5524-49A6-A89C-C5CA3F7FE00E}">
      <dgm:prSet/>
      <dgm:spPr/>
      <dgm:t>
        <a:bodyPr/>
        <a:lstStyle/>
        <a:p>
          <a:endParaRPr lang="en-US" sz="2400"/>
        </a:p>
      </dgm:t>
    </dgm:pt>
    <dgm:pt modelId="{DA3414A7-C000-46C0-ADFD-CBDD03FED073}">
      <dgm:prSet custT="1"/>
      <dgm:spPr/>
      <dgm:t>
        <a:bodyPr/>
        <a:lstStyle/>
        <a:p>
          <a:r>
            <a:rPr lang="en-US" sz="1600" dirty="0"/>
            <a:t>Nonlinear playback</a:t>
          </a:r>
        </a:p>
      </dgm:t>
    </dgm:pt>
    <dgm:pt modelId="{8DBECAF4-266E-4EB5-8B80-90B9F1845EC5}" type="parTrans" cxnId="{02E8823E-85FF-4D3C-A47F-DCC1A313207B}">
      <dgm:prSet/>
      <dgm:spPr/>
      <dgm:t>
        <a:bodyPr/>
        <a:lstStyle/>
        <a:p>
          <a:endParaRPr lang="en-US" sz="2400"/>
        </a:p>
      </dgm:t>
    </dgm:pt>
    <dgm:pt modelId="{E795A6F7-609F-411B-9AD8-BD8BBBAAAAE1}" type="sibTrans" cxnId="{02E8823E-85FF-4D3C-A47F-DCC1A313207B}">
      <dgm:prSet/>
      <dgm:spPr/>
      <dgm:t>
        <a:bodyPr/>
        <a:lstStyle/>
        <a:p>
          <a:endParaRPr lang="en-US" sz="2400"/>
        </a:p>
      </dgm:t>
    </dgm:pt>
    <dgm:pt modelId="{D4A8CACA-A194-4353-88B5-8BD94782493F}">
      <dgm:prSet custT="1"/>
      <dgm:spPr/>
      <dgm:t>
        <a:bodyPr/>
        <a:lstStyle/>
        <a:p>
          <a:r>
            <a:rPr lang="en-US" sz="1600" b="1"/>
            <a:t>Addressable Resource Index Track</a:t>
          </a:r>
          <a:endParaRPr lang="en-US" sz="1600" b="1" dirty="0"/>
        </a:p>
      </dgm:t>
    </dgm:pt>
    <dgm:pt modelId="{A3C3F1DC-999C-4718-9AE8-641324AE175A}" type="parTrans" cxnId="{57A1D8B2-897A-4249-A189-3334C16B630F}">
      <dgm:prSet/>
      <dgm:spPr/>
      <dgm:t>
        <a:bodyPr/>
        <a:lstStyle/>
        <a:p>
          <a:endParaRPr lang="en-US" sz="2400"/>
        </a:p>
      </dgm:t>
    </dgm:pt>
    <dgm:pt modelId="{5480A89A-E9A8-4D5E-88A3-BBEEB38CC29D}" type="sibTrans" cxnId="{57A1D8B2-897A-4249-A189-3334C16B630F}">
      <dgm:prSet/>
      <dgm:spPr/>
      <dgm:t>
        <a:bodyPr/>
        <a:lstStyle/>
        <a:p>
          <a:endParaRPr lang="en-US" sz="2400"/>
        </a:p>
      </dgm:t>
    </dgm:pt>
    <dgm:pt modelId="{07242E6E-FD35-4BA3-81A2-C2CE7D03E247}">
      <dgm:prSet custT="1"/>
      <dgm:spPr/>
      <dgm:t>
        <a:bodyPr/>
        <a:lstStyle/>
        <a:p>
          <a:r>
            <a:rPr lang="en-US" sz="1600" dirty="0"/>
            <a:t>DASH Period Event</a:t>
          </a:r>
        </a:p>
      </dgm:t>
    </dgm:pt>
    <dgm:pt modelId="{E4D90FDA-E50A-47D2-BAB7-58E4D0CC5BEA}" type="parTrans" cxnId="{C445206E-65C2-48E4-87FB-950D1D7325EE}">
      <dgm:prSet/>
      <dgm:spPr/>
      <dgm:t>
        <a:bodyPr/>
        <a:lstStyle/>
        <a:p>
          <a:endParaRPr lang="en-US" sz="2400"/>
        </a:p>
      </dgm:t>
    </dgm:pt>
    <dgm:pt modelId="{EB2EB02B-CDAE-4E40-B717-3EF71A03A337}" type="sibTrans" cxnId="{C445206E-65C2-48E4-87FB-950D1D7325EE}">
      <dgm:prSet/>
      <dgm:spPr/>
      <dgm:t>
        <a:bodyPr/>
        <a:lstStyle/>
        <a:p>
          <a:endParaRPr lang="en-US" sz="2400"/>
        </a:p>
      </dgm:t>
    </dgm:pt>
    <dgm:pt modelId="{1EC35147-8629-4099-A44D-BA3E247471C3}">
      <dgm:prSet custT="1"/>
      <dgm:spPr/>
      <dgm:t>
        <a:bodyPr/>
        <a:lstStyle/>
        <a:p>
          <a:r>
            <a:rPr lang="de-DE" sz="3200" dirty="0"/>
            <a:t>Amendment 2  Rolled into DIS 6th ed</a:t>
          </a:r>
          <a:endParaRPr lang="en-US" sz="3200" dirty="0"/>
        </a:p>
      </dgm:t>
    </dgm:pt>
    <dgm:pt modelId="{CB9F9B5A-6F27-4FF2-BC71-C2EC631B5DDB}" type="parTrans" cxnId="{AD532E17-01C1-40F2-B4BE-611800CB9EB4}">
      <dgm:prSet/>
      <dgm:spPr/>
      <dgm:t>
        <a:bodyPr/>
        <a:lstStyle/>
        <a:p>
          <a:endParaRPr lang="en-US" sz="2400"/>
        </a:p>
      </dgm:t>
    </dgm:pt>
    <dgm:pt modelId="{C8B57555-1C4C-4A24-8703-F532408E87EC}" type="sibTrans" cxnId="{AD532E17-01C1-40F2-B4BE-611800CB9EB4}">
      <dgm:prSet/>
      <dgm:spPr/>
      <dgm:t>
        <a:bodyPr/>
        <a:lstStyle/>
        <a:p>
          <a:endParaRPr lang="en-US" sz="2400"/>
        </a:p>
      </dgm:t>
    </dgm:pt>
    <dgm:pt modelId="{C58729F4-55A1-4976-A8AD-CDA9740A4774}">
      <dgm:prSet custT="1"/>
      <dgm:spPr/>
      <dgm:t>
        <a:bodyPr/>
        <a:lstStyle/>
        <a:p>
          <a:r>
            <a:rPr lang="en-US" sz="3200" dirty="0"/>
            <a:t>Amendment 1 – FDAM complete</a:t>
          </a:r>
        </a:p>
      </dgm:t>
    </dgm:pt>
    <dgm:pt modelId="{BC852728-FB60-4583-B878-20FE0F5AD0DD}" type="parTrans" cxnId="{5D4CB202-1E9E-4BBE-9B41-E196FC1A862F}">
      <dgm:prSet/>
      <dgm:spPr/>
      <dgm:t>
        <a:bodyPr/>
        <a:lstStyle/>
        <a:p>
          <a:endParaRPr lang="en-US" sz="2400"/>
        </a:p>
      </dgm:t>
    </dgm:pt>
    <dgm:pt modelId="{9645F516-5C59-42AC-89F1-DEB06D051968}" type="sibTrans" cxnId="{5D4CB202-1E9E-4BBE-9B41-E196FC1A862F}">
      <dgm:prSet/>
      <dgm:spPr/>
      <dgm:t>
        <a:bodyPr/>
        <a:lstStyle/>
        <a:p>
          <a:endParaRPr lang="en-US" sz="2400"/>
        </a:p>
      </dgm:t>
    </dgm:pt>
    <dgm:pt modelId="{200544EF-E590-42CE-88C2-3A01C826FED7}">
      <dgm:prSet phldrT="[Text]" custT="1"/>
      <dgm:spPr/>
      <dgm:t>
        <a:bodyPr/>
        <a:lstStyle/>
        <a:p>
          <a:r>
            <a:rPr lang="de-DE" sz="3200" dirty="0"/>
            <a:t>Amendment 3  Rolled into DIS 6th ed</a:t>
          </a:r>
          <a:endParaRPr lang="en-US" sz="3200" dirty="0"/>
        </a:p>
      </dgm:t>
    </dgm:pt>
    <dgm:pt modelId="{FF60E0E5-0E91-41AF-8695-E0A6B6E678ED}" type="parTrans" cxnId="{1B405C28-4794-4AF8-BC34-5C1885E1F748}">
      <dgm:prSet/>
      <dgm:spPr/>
      <dgm:t>
        <a:bodyPr/>
        <a:lstStyle/>
        <a:p>
          <a:endParaRPr lang="en-US" sz="2400"/>
        </a:p>
      </dgm:t>
    </dgm:pt>
    <dgm:pt modelId="{87A99ECA-9721-4573-8E9E-104E18E89DF1}" type="sibTrans" cxnId="{1B405C28-4794-4AF8-BC34-5C1885E1F748}">
      <dgm:prSet/>
      <dgm:spPr/>
      <dgm:t>
        <a:bodyPr/>
        <a:lstStyle/>
        <a:p>
          <a:endParaRPr lang="en-US" sz="2400"/>
        </a:p>
      </dgm:t>
    </dgm:pt>
    <dgm:pt modelId="{5C68293A-4A9E-457F-AEC0-F1F7EE1B8527}">
      <dgm:prSet phldrT="[Text]" custT="1"/>
      <dgm:spPr/>
      <dgm:t>
        <a:bodyPr/>
        <a:lstStyle/>
        <a:p>
          <a:r>
            <a:rPr lang="de-DE" sz="1600" b="1"/>
            <a:t>Support for CMCD Signaling</a:t>
          </a:r>
          <a:endParaRPr lang="en-US" sz="1600" b="1" dirty="0"/>
        </a:p>
      </dgm:t>
    </dgm:pt>
    <dgm:pt modelId="{7AEB9C6D-0F67-4A86-9AA1-7013A134DCF2}" type="parTrans" cxnId="{C02A797C-BBB8-4D28-BE3E-62F7058D9C1B}">
      <dgm:prSet/>
      <dgm:spPr/>
      <dgm:t>
        <a:bodyPr/>
        <a:lstStyle/>
        <a:p>
          <a:endParaRPr lang="en-US" sz="2400"/>
        </a:p>
      </dgm:t>
    </dgm:pt>
    <dgm:pt modelId="{1EBE81D8-8A6F-4F76-A473-A204F0221CA1}" type="sibTrans" cxnId="{C02A797C-BBB8-4D28-BE3E-62F7058D9C1B}">
      <dgm:prSet/>
      <dgm:spPr/>
      <dgm:t>
        <a:bodyPr/>
        <a:lstStyle/>
        <a:p>
          <a:endParaRPr lang="en-US" sz="2400"/>
        </a:p>
      </dgm:t>
    </dgm:pt>
    <dgm:pt modelId="{A4539588-FE57-45DC-A17F-98E1E7054831}">
      <dgm:prSet phldrT="[Text]" custT="1"/>
      <dgm:spPr/>
      <dgm:t>
        <a:bodyPr/>
        <a:lstStyle/>
        <a:p>
          <a:r>
            <a:rPr lang="de-DE" sz="1600" b="1"/>
            <a:t>Segment Sequences for improved latency and switching</a:t>
          </a:r>
          <a:endParaRPr lang="en-US" sz="1600" b="1" dirty="0"/>
        </a:p>
      </dgm:t>
    </dgm:pt>
    <dgm:pt modelId="{3A0E5D54-4F09-48D0-B74C-D2C17FC5CB47}" type="sibTrans" cxnId="{AA1E500D-CC6D-414A-BD08-131FDF807107}">
      <dgm:prSet/>
      <dgm:spPr/>
      <dgm:t>
        <a:bodyPr/>
        <a:lstStyle/>
        <a:p>
          <a:endParaRPr lang="en-US" sz="2400"/>
        </a:p>
      </dgm:t>
    </dgm:pt>
    <dgm:pt modelId="{B9A72DB2-AD49-43AA-AB74-BE0B3A4D1E9E}" type="parTrans" cxnId="{AA1E500D-CC6D-414A-BD08-131FDF807107}">
      <dgm:prSet/>
      <dgm:spPr/>
      <dgm:t>
        <a:bodyPr/>
        <a:lstStyle/>
        <a:p>
          <a:endParaRPr lang="en-US" sz="2400"/>
        </a:p>
      </dgm:t>
    </dgm:pt>
    <dgm:pt modelId="{47F77987-8270-4AC8-8C37-32203356AFA9}">
      <dgm:prSet phldrT="[Text]" custT="1"/>
      <dgm:spPr/>
      <dgm:t>
        <a:bodyPr/>
        <a:lstStyle/>
        <a:p>
          <a:r>
            <a:rPr lang="de-DE" sz="1600" dirty="0"/>
            <a:t>Support for status in Event scheme</a:t>
          </a:r>
          <a:endParaRPr lang="en-US" sz="1600" dirty="0"/>
        </a:p>
      </dgm:t>
    </dgm:pt>
    <dgm:pt modelId="{CCC9C46C-01EE-45E0-BC25-67E05A33C9A8}" type="sibTrans" cxnId="{A815FD5C-F1E7-45FF-8820-632649EC8131}">
      <dgm:prSet/>
      <dgm:spPr/>
      <dgm:t>
        <a:bodyPr/>
        <a:lstStyle/>
        <a:p>
          <a:endParaRPr lang="en-US" sz="2400"/>
        </a:p>
      </dgm:t>
    </dgm:pt>
    <dgm:pt modelId="{467166D3-78DF-407F-A13B-0D1B72AFC783}" type="parTrans" cxnId="{A815FD5C-F1E7-45FF-8820-632649EC8131}">
      <dgm:prSet/>
      <dgm:spPr/>
      <dgm:t>
        <a:bodyPr/>
        <a:lstStyle/>
        <a:p>
          <a:endParaRPr lang="en-US" sz="2400"/>
        </a:p>
      </dgm:t>
    </dgm:pt>
    <dgm:pt modelId="{D496FFCE-58FE-42E8-937D-51AAA1A7FC29}">
      <dgm:prSet phldrT="[Text]" custT="1"/>
      <dgm:spPr/>
      <dgm:t>
        <a:bodyPr/>
        <a:lstStyle/>
        <a:p>
          <a:r>
            <a:rPr lang="de-DE" sz="1600" dirty="0"/>
            <a:t>Support for </a:t>
          </a:r>
          <a:r>
            <a:rPr lang="en-US" sz="1600" dirty="0"/>
            <a:t>extended dependent random access point representations</a:t>
          </a:r>
        </a:p>
      </dgm:t>
    </dgm:pt>
    <dgm:pt modelId="{50AB8771-7137-470B-9F72-84EE680C85FE}" type="parTrans" cxnId="{B59EDC7D-D7F8-40BD-9690-2D93B1A45FC1}">
      <dgm:prSet/>
      <dgm:spPr/>
      <dgm:t>
        <a:bodyPr/>
        <a:lstStyle/>
        <a:p>
          <a:endParaRPr lang="en-US" sz="2400"/>
        </a:p>
      </dgm:t>
    </dgm:pt>
    <dgm:pt modelId="{92A37FE3-D238-46AF-9EC3-8919E9E0014B}" type="sibTrans" cxnId="{B59EDC7D-D7F8-40BD-9690-2D93B1A45FC1}">
      <dgm:prSet/>
      <dgm:spPr/>
      <dgm:t>
        <a:bodyPr/>
        <a:lstStyle/>
        <a:p>
          <a:endParaRPr lang="en-US" sz="2400"/>
        </a:p>
      </dgm:t>
    </dgm:pt>
    <dgm:pt modelId="{BD7CB1DE-D118-49EF-9C71-4F48AA7DF313}">
      <dgm:prSet phldrT="[Text]" custT="1"/>
      <dgm:spPr/>
      <dgm:t>
        <a:bodyPr/>
        <a:lstStyle/>
        <a:p>
          <a:r>
            <a:rPr lang="de-DE" sz="1600" dirty="0"/>
            <a:t>Support for advanced Picture-in-Picture signaling (using VVC subpictures)</a:t>
          </a:r>
          <a:endParaRPr lang="en-US" sz="1600" dirty="0"/>
        </a:p>
      </dgm:t>
    </dgm:pt>
    <dgm:pt modelId="{EF668A2D-0EDA-4075-9613-B54793DF8A74}" type="parTrans" cxnId="{AE1015F4-99CB-4D59-B464-C473E289883F}">
      <dgm:prSet/>
      <dgm:spPr/>
      <dgm:t>
        <a:bodyPr/>
        <a:lstStyle/>
        <a:p>
          <a:endParaRPr lang="en-US" sz="2400"/>
        </a:p>
      </dgm:t>
    </dgm:pt>
    <dgm:pt modelId="{C684C35C-4F34-4B38-80EF-4BDC7ECE26D2}" type="sibTrans" cxnId="{AE1015F4-99CB-4D59-B464-C473E289883F}">
      <dgm:prSet/>
      <dgm:spPr/>
      <dgm:t>
        <a:bodyPr/>
        <a:lstStyle/>
        <a:p>
          <a:endParaRPr lang="en-US" sz="2400"/>
        </a:p>
      </dgm:t>
    </dgm:pt>
    <dgm:pt modelId="{825272D2-3DDE-4E82-AEC7-250C67C648B4}">
      <dgm:prSet phldrT="[Text]" custT="1"/>
      <dgm:spPr/>
      <dgm:t>
        <a:bodyPr/>
        <a:lstStyle/>
        <a:p>
          <a:r>
            <a:rPr lang="de-DE" sz="1600" b="1"/>
            <a:t>Improvements to Segment Timeline for Patterns and tolerance</a:t>
          </a:r>
          <a:endParaRPr lang="en-US" sz="1600" b="1" dirty="0"/>
        </a:p>
      </dgm:t>
    </dgm:pt>
    <dgm:pt modelId="{EF13BC14-71F9-4136-A3E0-F4A291823466}" type="parTrans" cxnId="{E15B4359-7512-4C1F-9E97-9B74B8636299}">
      <dgm:prSet/>
      <dgm:spPr/>
      <dgm:t>
        <a:bodyPr/>
        <a:lstStyle/>
        <a:p>
          <a:endParaRPr lang="en-US" sz="2400"/>
        </a:p>
      </dgm:t>
    </dgm:pt>
    <dgm:pt modelId="{D5841C0F-7D77-4301-88E7-F911DF0DB3D7}" type="sibTrans" cxnId="{E15B4359-7512-4C1F-9E97-9B74B8636299}">
      <dgm:prSet/>
      <dgm:spPr/>
      <dgm:t>
        <a:bodyPr/>
        <a:lstStyle/>
        <a:p>
          <a:endParaRPr lang="en-US" sz="2400"/>
        </a:p>
      </dgm:t>
    </dgm:pt>
    <dgm:pt modelId="{05C8FF6B-729C-4E51-97E6-E82B14200A72}">
      <dgm:prSet phldrT="[Text]" custT="1"/>
      <dgm:spPr/>
      <dgm:t>
        <a:bodyPr/>
        <a:lstStyle/>
        <a:p>
          <a:r>
            <a:rPr lang="de-DE" sz="1600" b="1" dirty="0"/>
            <a:t>Support for Content Steering</a:t>
          </a:r>
          <a:endParaRPr lang="en-US" sz="1600" b="1" dirty="0"/>
        </a:p>
      </dgm:t>
    </dgm:pt>
    <dgm:pt modelId="{531E96A6-3BB8-4D10-A6C9-9EB270778FF3}" type="parTrans" cxnId="{FF1B458C-5A7B-4FC7-BA83-56F7C2DE79B2}">
      <dgm:prSet/>
      <dgm:spPr/>
      <dgm:t>
        <a:bodyPr/>
        <a:lstStyle/>
        <a:p>
          <a:endParaRPr lang="en-US"/>
        </a:p>
      </dgm:t>
    </dgm:pt>
    <dgm:pt modelId="{5DD2C579-AFB8-416B-8549-93C44580058A}" type="sibTrans" cxnId="{FF1B458C-5A7B-4FC7-BA83-56F7C2DE79B2}">
      <dgm:prSet/>
      <dgm:spPr/>
      <dgm:t>
        <a:bodyPr/>
        <a:lstStyle/>
        <a:p>
          <a:endParaRPr lang="en-US"/>
        </a:p>
      </dgm:t>
    </dgm:pt>
    <dgm:pt modelId="{317DE9A8-377E-4C48-B760-64084A553F97}" type="pres">
      <dgm:prSet presAssocID="{D76429CC-182A-4EA2-97C3-EC4445D0047C}" presName="linear" presStyleCnt="0">
        <dgm:presLayoutVars>
          <dgm:dir/>
          <dgm:animLvl val="lvl"/>
          <dgm:resizeHandles val="exact"/>
        </dgm:presLayoutVars>
      </dgm:prSet>
      <dgm:spPr/>
    </dgm:pt>
    <dgm:pt modelId="{FADA6889-CFB9-4E21-8D67-5B389C748C8D}" type="pres">
      <dgm:prSet presAssocID="{C58729F4-55A1-4976-A8AD-CDA9740A4774}" presName="parentLin" presStyleCnt="0"/>
      <dgm:spPr/>
    </dgm:pt>
    <dgm:pt modelId="{AC31A848-0AC4-4091-B75C-D5A5CC9AC771}" type="pres">
      <dgm:prSet presAssocID="{C58729F4-55A1-4976-A8AD-CDA9740A4774}" presName="parentLeftMargin" presStyleLbl="node1" presStyleIdx="0" presStyleCnt="3"/>
      <dgm:spPr/>
    </dgm:pt>
    <dgm:pt modelId="{F3B27941-79B5-4B96-97A6-4CB741201301}" type="pres">
      <dgm:prSet presAssocID="{C58729F4-55A1-4976-A8AD-CDA9740A4774}" presName="parentText" presStyleLbl="node1" presStyleIdx="0" presStyleCnt="3">
        <dgm:presLayoutVars>
          <dgm:chMax val="0"/>
          <dgm:bulletEnabled val="1"/>
        </dgm:presLayoutVars>
      </dgm:prSet>
      <dgm:spPr/>
    </dgm:pt>
    <dgm:pt modelId="{FE3E8D38-1505-4986-8964-761AB99C2D7C}" type="pres">
      <dgm:prSet presAssocID="{C58729F4-55A1-4976-A8AD-CDA9740A4774}" presName="negativeSpace" presStyleCnt="0"/>
      <dgm:spPr/>
    </dgm:pt>
    <dgm:pt modelId="{AAA1F8A3-9CE7-4950-BAEC-1F842222B9A1}" type="pres">
      <dgm:prSet presAssocID="{C58729F4-55A1-4976-A8AD-CDA9740A4774}" presName="childText" presStyleLbl="conFgAcc1" presStyleIdx="0" presStyleCnt="3">
        <dgm:presLayoutVars>
          <dgm:bulletEnabled val="1"/>
        </dgm:presLayoutVars>
      </dgm:prSet>
      <dgm:spPr/>
    </dgm:pt>
    <dgm:pt modelId="{B3EEFB36-9BB6-4F0A-A798-650AE7E33272}" type="pres">
      <dgm:prSet presAssocID="{9645F516-5C59-42AC-89F1-DEB06D051968}" presName="spaceBetweenRectangles" presStyleCnt="0"/>
      <dgm:spPr/>
    </dgm:pt>
    <dgm:pt modelId="{BB05ED72-A718-465A-9BEA-4D9876B651D4}" type="pres">
      <dgm:prSet presAssocID="{1EC35147-8629-4099-A44D-BA3E247471C3}" presName="parentLin" presStyleCnt="0"/>
      <dgm:spPr/>
    </dgm:pt>
    <dgm:pt modelId="{49F841E1-577B-4612-A0C6-C5FF6B5E1F6D}" type="pres">
      <dgm:prSet presAssocID="{1EC35147-8629-4099-A44D-BA3E247471C3}" presName="parentLeftMargin" presStyleLbl="node1" presStyleIdx="0" presStyleCnt="3"/>
      <dgm:spPr/>
    </dgm:pt>
    <dgm:pt modelId="{D152A703-405C-414B-9D9A-9562D0B66416}" type="pres">
      <dgm:prSet presAssocID="{1EC35147-8629-4099-A44D-BA3E247471C3}" presName="parentText" presStyleLbl="node1" presStyleIdx="1" presStyleCnt="3">
        <dgm:presLayoutVars>
          <dgm:chMax val="0"/>
          <dgm:bulletEnabled val="1"/>
        </dgm:presLayoutVars>
      </dgm:prSet>
      <dgm:spPr/>
    </dgm:pt>
    <dgm:pt modelId="{D05B452A-4097-4B07-9D34-D07FC49508D3}" type="pres">
      <dgm:prSet presAssocID="{1EC35147-8629-4099-A44D-BA3E247471C3}" presName="negativeSpace" presStyleCnt="0"/>
      <dgm:spPr/>
    </dgm:pt>
    <dgm:pt modelId="{B0102BDD-13F8-4746-9A64-34D60BD1F339}" type="pres">
      <dgm:prSet presAssocID="{1EC35147-8629-4099-A44D-BA3E247471C3}" presName="childText" presStyleLbl="conFgAcc1" presStyleIdx="1" presStyleCnt="3">
        <dgm:presLayoutVars>
          <dgm:bulletEnabled val="1"/>
        </dgm:presLayoutVars>
      </dgm:prSet>
      <dgm:spPr/>
    </dgm:pt>
    <dgm:pt modelId="{2D14042C-A4BF-4383-8C1F-C1548F87A1CF}" type="pres">
      <dgm:prSet presAssocID="{C8B57555-1C4C-4A24-8703-F532408E87EC}" presName="spaceBetweenRectangles" presStyleCnt="0"/>
      <dgm:spPr/>
    </dgm:pt>
    <dgm:pt modelId="{9D838153-7D31-4A6E-BEE4-C0DC1F23B799}" type="pres">
      <dgm:prSet presAssocID="{200544EF-E590-42CE-88C2-3A01C826FED7}" presName="parentLin" presStyleCnt="0"/>
      <dgm:spPr/>
    </dgm:pt>
    <dgm:pt modelId="{9F8EAA6B-83F7-4F0B-A6E8-6DC7DAC142C6}" type="pres">
      <dgm:prSet presAssocID="{200544EF-E590-42CE-88C2-3A01C826FED7}" presName="parentLeftMargin" presStyleLbl="node1" presStyleIdx="1" presStyleCnt="3"/>
      <dgm:spPr/>
    </dgm:pt>
    <dgm:pt modelId="{9E3A8BC3-F52A-4DC8-8C65-D56BB95817A7}" type="pres">
      <dgm:prSet presAssocID="{200544EF-E590-42CE-88C2-3A01C826FED7}" presName="parentText" presStyleLbl="node1" presStyleIdx="2" presStyleCnt="3">
        <dgm:presLayoutVars>
          <dgm:chMax val="0"/>
          <dgm:bulletEnabled val="1"/>
        </dgm:presLayoutVars>
      </dgm:prSet>
      <dgm:spPr/>
    </dgm:pt>
    <dgm:pt modelId="{95A23AE6-25EA-4816-88A6-FF2F96456A3C}" type="pres">
      <dgm:prSet presAssocID="{200544EF-E590-42CE-88C2-3A01C826FED7}" presName="negativeSpace" presStyleCnt="0"/>
      <dgm:spPr/>
    </dgm:pt>
    <dgm:pt modelId="{4CDFBD84-AD44-46AC-8A9F-A9CC5CCAEE5E}" type="pres">
      <dgm:prSet presAssocID="{200544EF-E590-42CE-88C2-3A01C826FED7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5D4CB202-1E9E-4BBE-9B41-E196FC1A862F}" srcId="{D76429CC-182A-4EA2-97C3-EC4445D0047C}" destId="{C58729F4-55A1-4976-A8AD-CDA9740A4774}" srcOrd="0" destOrd="0" parTransId="{BC852728-FB60-4583-B878-20FE0F5AD0DD}" sibTransId="{9645F516-5C59-42AC-89F1-DEB06D051968}"/>
    <dgm:cxn modelId="{AA1E500D-CC6D-414A-BD08-131FDF807107}" srcId="{200544EF-E590-42CE-88C2-3A01C826FED7}" destId="{A4539588-FE57-45DC-A17F-98E1E7054831}" srcOrd="1" destOrd="0" parTransId="{B9A72DB2-AD49-43AA-AB74-BE0B3A4D1E9E}" sibTransId="{3A0E5D54-4F09-48D0-B74C-D2C17FC5CB47}"/>
    <dgm:cxn modelId="{AD532E17-01C1-40F2-B4BE-611800CB9EB4}" srcId="{D76429CC-182A-4EA2-97C3-EC4445D0047C}" destId="{1EC35147-8629-4099-A44D-BA3E247471C3}" srcOrd="1" destOrd="0" parTransId="{CB9F9B5A-6F27-4FF2-BC71-C2EC631B5DDB}" sibTransId="{C8B57555-1C4C-4A24-8703-F532408E87EC}"/>
    <dgm:cxn modelId="{E8702B21-1888-4EB0-A055-2F2C8E914052}" type="presOf" srcId="{1EC35147-8629-4099-A44D-BA3E247471C3}" destId="{49F841E1-577B-4612-A0C6-C5FF6B5E1F6D}" srcOrd="0" destOrd="0" presId="urn:microsoft.com/office/officeart/2005/8/layout/list1"/>
    <dgm:cxn modelId="{594FA625-8A59-412B-8F92-787A6348800F}" type="presOf" srcId="{200544EF-E590-42CE-88C2-3A01C826FED7}" destId="{9F8EAA6B-83F7-4F0B-A6E8-6DC7DAC142C6}" srcOrd="0" destOrd="0" presId="urn:microsoft.com/office/officeart/2005/8/layout/list1"/>
    <dgm:cxn modelId="{6EADB226-9E66-434C-ACE5-69CC5AD7CD8B}" type="presOf" srcId="{DA3414A7-C000-46C0-ADFD-CBDD03FED073}" destId="{AAA1F8A3-9CE7-4950-BAEC-1F842222B9A1}" srcOrd="0" destOrd="0" presId="urn:microsoft.com/office/officeart/2005/8/layout/list1"/>
    <dgm:cxn modelId="{1B405C28-4794-4AF8-BC34-5C1885E1F748}" srcId="{D76429CC-182A-4EA2-97C3-EC4445D0047C}" destId="{200544EF-E590-42CE-88C2-3A01C826FED7}" srcOrd="2" destOrd="0" parTransId="{FF60E0E5-0E91-41AF-8695-E0A6B6E678ED}" sibTransId="{87A99ECA-9721-4573-8E9E-104E18E89DF1}"/>
    <dgm:cxn modelId="{5EE24A2D-2C48-4814-A8B3-721E6092BD65}" type="presOf" srcId="{A5883B76-DD7A-455B-9532-274F88E6947D}" destId="{B0102BDD-13F8-4746-9A64-34D60BD1F339}" srcOrd="0" destOrd="0" presId="urn:microsoft.com/office/officeart/2005/8/layout/list1"/>
    <dgm:cxn modelId="{B8912334-C41A-47D4-AB3F-ABAAD536DA2C}" type="presOf" srcId="{C58729F4-55A1-4976-A8AD-CDA9740A4774}" destId="{F3B27941-79B5-4B96-97A6-4CB741201301}" srcOrd="1" destOrd="0" presId="urn:microsoft.com/office/officeart/2005/8/layout/list1"/>
    <dgm:cxn modelId="{F6079434-5DD9-4806-B841-28B4B3052C7E}" type="presOf" srcId="{D496FFCE-58FE-42E8-937D-51AAA1A7FC29}" destId="{B0102BDD-13F8-4746-9A64-34D60BD1F339}" srcOrd="0" destOrd="2" presId="urn:microsoft.com/office/officeart/2005/8/layout/list1"/>
    <dgm:cxn modelId="{02E8823E-85FF-4D3C-A47F-DCC1A313207B}" srcId="{C58729F4-55A1-4976-A8AD-CDA9740A4774}" destId="{DA3414A7-C000-46C0-ADFD-CBDD03FED073}" srcOrd="0" destOrd="0" parTransId="{8DBECAF4-266E-4EB5-8B80-90B9F1845EC5}" sibTransId="{E795A6F7-609F-411B-9AD8-BD8BBBAAAAE1}"/>
    <dgm:cxn modelId="{8ABAE23E-5524-49A6-A89C-C5CA3F7FE00E}" srcId="{1EC35147-8629-4099-A44D-BA3E247471C3}" destId="{A5883B76-DD7A-455B-9532-274F88E6947D}" srcOrd="0" destOrd="0" parTransId="{7AC7B45B-FB0F-415F-AE1D-50E54927F565}" sibTransId="{21563A75-D3D5-4A18-8F43-9636A2DDF69D}"/>
    <dgm:cxn modelId="{E699AD40-B1EB-4F29-B4FD-A4CBF690D0C6}" type="presOf" srcId="{47F77987-8270-4AC8-8C37-32203356AFA9}" destId="{B0102BDD-13F8-4746-9A64-34D60BD1F339}" srcOrd="0" destOrd="4" presId="urn:microsoft.com/office/officeart/2005/8/layout/list1"/>
    <dgm:cxn modelId="{B10D235B-873F-4854-BF6D-15F7DF89EF2A}" type="presOf" srcId="{07242E6E-FD35-4BA3-81A2-C2CE7D03E247}" destId="{AAA1F8A3-9CE7-4950-BAEC-1F842222B9A1}" srcOrd="0" destOrd="2" presId="urn:microsoft.com/office/officeart/2005/8/layout/list1"/>
    <dgm:cxn modelId="{A815FD5C-F1E7-45FF-8820-632649EC8131}" srcId="{1EC35147-8629-4099-A44D-BA3E247471C3}" destId="{47F77987-8270-4AC8-8C37-32203356AFA9}" srcOrd="4" destOrd="0" parTransId="{467166D3-78DF-407F-A13B-0D1B72AFC783}" sibTransId="{CCC9C46C-01EE-45E0-BC25-67E05A33C9A8}"/>
    <dgm:cxn modelId="{CFF24A5D-DA7A-4E7A-993D-5CF4B7C5B6A2}" type="presOf" srcId="{200544EF-E590-42CE-88C2-3A01C826FED7}" destId="{9E3A8BC3-F52A-4DC8-8C65-D56BB95817A7}" srcOrd="1" destOrd="0" presId="urn:microsoft.com/office/officeart/2005/8/layout/list1"/>
    <dgm:cxn modelId="{C445206E-65C2-48E4-87FB-950D1D7325EE}" srcId="{C58729F4-55A1-4976-A8AD-CDA9740A4774}" destId="{07242E6E-FD35-4BA3-81A2-C2CE7D03E247}" srcOrd="2" destOrd="0" parTransId="{E4D90FDA-E50A-47D2-BAB7-58E4D0CC5BEA}" sibTransId="{EB2EB02B-CDAE-4E40-B717-3EF71A03A337}"/>
    <dgm:cxn modelId="{6D7B5E72-9B89-486B-874F-256B0D68223C}" type="presOf" srcId="{D76429CC-182A-4EA2-97C3-EC4445D0047C}" destId="{317DE9A8-377E-4C48-B760-64084A553F97}" srcOrd="0" destOrd="0" presId="urn:microsoft.com/office/officeart/2005/8/layout/list1"/>
    <dgm:cxn modelId="{CA707A72-E13E-43B8-B6BB-B895AC5FB9C1}" type="presOf" srcId="{1EC35147-8629-4099-A44D-BA3E247471C3}" destId="{D152A703-405C-414B-9D9A-9562D0B66416}" srcOrd="1" destOrd="0" presId="urn:microsoft.com/office/officeart/2005/8/layout/list1"/>
    <dgm:cxn modelId="{E15B4359-7512-4C1F-9E97-9B74B8636299}" srcId="{200544EF-E590-42CE-88C2-3A01C826FED7}" destId="{825272D2-3DDE-4E82-AEC7-250C67C648B4}" srcOrd="2" destOrd="0" parTransId="{EF13BC14-71F9-4136-A3E0-F4A291823466}" sibTransId="{D5841C0F-7D77-4301-88E7-F911DF0DB3D7}"/>
    <dgm:cxn modelId="{C02A797C-BBB8-4D28-BE3E-62F7058D9C1B}" srcId="{200544EF-E590-42CE-88C2-3A01C826FED7}" destId="{5C68293A-4A9E-457F-AEC0-F1F7EE1B8527}" srcOrd="0" destOrd="0" parTransId="{7AEB9C6D-0F67-4A86-9AA1-7013A134DCF2}" sibTransId="{1EBE81D8-8A6F-4F76-A473-A204F0221CA1}"/>
    <dgm:cxn modelId="{B59EDC7D-D7F8-40BD-9690-2D93B1A45FC1}" srcId="{1EC35147-8629-4099-A44D-BA3E247471C3}" destId="{D496FFCE-58FE-42E8-937D-51AAA1A7FC29}" srcOrd="2" destOrd="0" parTransId="{50AB8771-7137-470B-9F72-84EE680C85FE}" sibTransId="{92A37FE3-D238-46AF-9EC3-8919E9E0014B}"/>
    <dgm:cxn modelId="{FF1B458C-5A7B-4FC7-BA83-56F7C2DE79B2}" srcId="{1EC35147-8629-4099-A44D-BA3E247471C3}" destId="{05C8FF6B-729C-4E51-97E6-E82B14200A72}" srcOrd="1" destOrd="0" parTransId="{531E96A6-3BB8-4D10-A6C9-9EB270778FF3}" sibTransId="{5DD2C579-AFB8-416B-8549-93C44580058A}"/>
    <dgm:cxn modelId="{477316A3-345E-4BE8-9F63-42210E89F6CF}" type="presOf" srcId="{5C68293A-4A9E-457F-AEC0-F1F7EE1B8527}" destId="{4CDFBD84-AD44-46AC-8A9F-A9CC5CCAEE5E}" srcOrd="0" destOrd="0" presId="urn:microsoft.com/office/officeart/2005/8/layout/list1"/>
    <dgm:cxn modelId="{0D9489A4-2EAC-4341-9939-994B421CFD72}" type="presOf" srcId="{C58729F4-55A1-4976-A8AD-CDA9740A4774}" destId="{AC31A848-0AC4-4091-B75C-D5A5CC9AC771}" srcOrd="0" destOrd="0" presId="urn:microsoft.com/office/officeart/2005/8/layout/list1"/>
    <dgm:cxn modelId="{57A1D8B2-897A-4249-A189-3334C16B630F}" srcId="{C58729F4-55A1-4976-A8AD-CDA9740A4774}" destId="{D4A8CACA-A194-4353-88B5-8BD94782493F}" srcOrd="1" destOrd="0" parTransId="{A3C3F1DC-999C-4718-9AE8-641324AE175A}" sibTransId="{5480A89A-E9A8-4D5E-88A3-BBEEB38CC29D}"/>
    <dgm:cxn modelId="{F88C27BC-016D-4262-A416-07233FF6B2E4}" type="presOf" srcId="{825272D2-3DDE-4E82-AEC7-250C67C648B4}" destId="{4CDFBD84-AD44-46AC-8A9F-A9CC5CCAEE5E}" srcOrd="0" destOrd="2" presId="urn:microsoft.com/office/officeart/2005/8/layout/list1"/>
    <dgm:cxn modelId="{460E03BF-0D3D-4254-B55A-00546D7DCCA5}" type="presOf" srcId="{05C8FF6B-729C-4E51-97E6-E82B14200A72}" destId="{B0102BDD-13F8-4746-9A64-34D60BD1F339}" srcOrd="0" destOrd="1" presId="urn:microsoft.com/office/officeart/2005/8/layout/list1"/>
    <dgm:cxn modelId="{0FF985C3-B216-4EFD-9987-600DFD5ED25F}" type="presOf" srcId="{A4539588-FE57-45DC-A17F-98E1E7054831}" destId="{4CDFBD84-AD44-46AC-8A9F-A9CC5CCAEE5E}" srcOrd="0" destOrd="1" presId="urn:microsoft.com/office/officeart/2005/8/layout/list1"/>
    <dgm:cxn modelId="{881C68E5-F87C-4D79-B961-002BC3BAB790}" type="presOf" srcId="{BD7CB1DE-D118-49EF-9C71-4F48AA7DF313}" destId="{B0102BDD-13F8-4746-9A64-34D60BD1F339}" srcOrd="0" destOrd="3" presId="urn:microsoft.com/office/officeart/2005/8/layout/list1"/>
    <dgm:cxn modelId="{08F4A8F3-FF05-42B8-93FF-A02B38780120}" type="presOf" srcId="{D4A8CACA-A194-4353-88B5-8BD94782493F}" destId="{AAA1F8A3-9CE7-4950-BAEC-1F842222B9A1}" srcOrd="0" destOrd="1" presId="urn:microsoft.com/office/officeart/2005/8/layout/list1"/>
    <dgm:cxn modelId="{AE1015F4-99CB-4D59-B464-C473E289883F}" srcId="{1EC35147-8629-4099-A44D-BA3E247471C3}" destId="{BD7CB1DE-D118-49EF-9C71-4F48AA7DF313}" srcOrd="3" destOrd="0" parTransId="{EF668A2D-0EDA-4075-9613-B54793DF8A74}" sibTransId="{C684C35C-4F34-4B38-80EF-4BDC7ECE26D2}"/>
    <dgm:cxn modelId="{48E32C12-A820-48E4-8CB9-A91A203935B8}" type="presParOf" srcId="{317DE9A8-377E-4C48-B760-64084A553F97}" destId="{FADA6889-CFB9-4E21-8D67-5B389C748C8D}" srcOrd="0" destOrd="0" presId="urn:microsoft.com/office/officeart/2005/8/layout/list1"/>
    <dgm:cxn modelId="{51AD3F1D-012D-424B-958F-1A5A2B0980B6}" type="presParOf" srcId="{FADA6889-CFB9-4E21-8D67-5B389C748C8D}" destId="{AC31A848-0AC4-4091-B75C-D5A5CC9AC771}" srcOrd="0" destOrd="0" presId="urn:microsoft.com/office/officeart/2005/8/layout/list1"/>
    <dgm:cxn modelId="{B7E87BCC-621D-48E7-A410-EDA9F7278019}" type="presParOf" srcId="{FADA6889-CFB9-4E21-8D67-5B389C748C8D}" destId="{F3B27941-79B5-4B96-97A6-4CB741201301}" srcOrd="1" destOrd="0" presId="urn:microsoft.com/office/officeart/2005/8/layout/list1"/>
    <dgm:cxn modelId="{B3794D73-7778-43C3-965B-46E03129717B}" type="presParOf" srcId="{317DE9A8-377E-4C48-B760-64084A553F97}" destId="{FE3E8D38-1505-4986-8964-761AB99C2D7C}" srcOrd="1" destOrd="0" presId="urn:microsoft.com/office/officeart/2005/8/layout/list1"/>
    <dgm:cxn modelId="{9AD0818C-6DB8-463A-A2E2-035B576D8130}" type="presParOf" srcId="{317DE9A8-377E-4C48-B760-64084A553F97}" destId="{AAA1F8A3-9CE7-4950-BAEC-1F842222B9A1}" srcOrd="2" destOrd="0" presId="urn:microsoft.com/office/officeart/2005/8/layout/list1"/>
    <dgm:cxn modelId="{A2092457-1FFC-4806-9767-25D4DCCBEF26}" type="presParOf" srcId="{317DE9A8-377E-4C48-B760-64084A553F97}" destId="{B3EEFB36-9BB6-4F0A-A798-650AE7E33272}" srcOrd="3" destOrd="0" presId="urn:microsoft.com/office/officeart/2005/8/layout/list1"/>
    <dgm:cxn modelId="{22D0F26E-8407-4418-BFBA-ABE8D10BB986}" type="presParOf" srcId="{317DE9A8-377E-4C48-B760-64084A553F97}" destId="{BB05ED72-A718-465A-9BEA-4D9876B651D4}" srcOrd="4" destOrd="0" presId="urn:microsoft.com/office/officeart/2005/8/layout/list1"/>
    <dgm:cxn modelId="{249E130C-A0E9-4C49-B711-2027C539731D}" type="presParOf" srcId="{BB05ED72-A718-465A-9BEA-4D9876B651D4}" destId="{49F841E1-577B-4612-A0C6-C5FF6B5E1F6D}" srcOrd="0" destOrd="0" presId="urn:microsoft.com/office/officeart/2005/8/layout/list1"/>
    <dgm:cxn modelId="{E39B0EB7-EAFF-48EE-9D5F-492A8498AD3C}" type="presParOf" srcId="{BB05ED72-A718-465A-9BEA-4D9876B651D4}" destId="{D152A703-405C-414B-9D9A-9562D0B66416}" srcOrd="1" destOrd="0" presId="urn:microsoft.com/office/officeart/2005/8/layout/list1"/>
    <dgm:cxn modelId="{BE0B10AE-380B-439D-8AA2-80B76AA2261C}" type="presParOf" srcId="{317DE9A8-377E-4C48-B760-64084A553F97}" destId="{D05B452A-4097-4B07-9D34-D07FC49508D3}" srcOrd="5" destOrd="0" presId="urn:microsoft.com/office/officeart/2005/8/layout/list1"/>
    <dgm:cxn modelId="{35BC1E2F-B3F6-4DA9-99FC-660EF08356BA}" type="presParOf" srcId="{317DE9A8-377E-4C48-B760-64084A553F97}" destId="{B0102BDD-13F8-4746-9A64-34D60BD1F339}" srcOrd="6" destOrd="0" presId="urn:microsoft.com/office/officeart/2005/8/layout/list1"/>
    <dgm:cxn modelId="{A394228F-2270-4DEB-9C2D-97427996AC18}" type="presParOf" srcId="{317DE9A8-377E-4C48-B760-64084A553F97}" destId="{2D14042C-A4BF-4383-8C1F-C1548F87A1CF}" srcOrd="7" destOrd="0" presId="urn:microsoft.com/office/officeart/2005/8/layout/list1"/>
    <dgm:cxn modelId="{89F8065A-B4B2-46E3-9542-DC9996921E00}" type="presParOf" srcId="{317DE9A8-377E-4C48-B760-64084A553F97}" destId="{9D838153-7D31-4A6E-BEE4-C0DC1F23B799}" srcOrd="8" destOrd="0" presId="urn:microsoft.com/office/officeart/2005/8/layout/list1"/>
    <dgm:cxn modelId="{84CF523F-6341-46CD-A712-FE8F0B496A69}" type="presParOf" srcId="{9D838153-7D31-4A6E-BEE4-C0DC1F23B799}" destId="{9F8EAA6B-83F7-4F0B-A6E8-6DC7DAC142C6}" srcOrd="0" destOrd="0" presId="urn:microsoft.com/office/officeart/2005/8/layout/list1"/>
    <dgm:cxn modelId="{C7353961-BE4E-444F-A17B-D61CE7974EED}" type="presParOf" srcId="{9D838153-7D31-4A6E-BEE4-C0DC1F23B799}" destId="{9E3A8BC3-F52A-4DC8-8C65-D56BB95817A7}" srcOrd="1" destOrd="0" presId="urn:microsoft.com/office/officeart/2005/8/layout/list1"/>
    <dgm:cxn modelId="{750FC6B2-2DCF-4B7B-B50D-DB50E5D0BDF5}" type="presParOf" srcId="{317DE9A8-377E-4C48-B760-64084A553F97}" destId="{95A23AE6-25EA-4816-88A6-FF2F96456A3C}" srcOrd="9" destOrd="0" presId="urn:microsoft.com/office/officeart/2005/8/layout/list1"/>
    <dgm:cxn modelId="{E72329D0-2C57-4128-875D-93F7C0449225}" type="presParOf" srcId="{317DE9A8-377E-4C48-B760-64084A553F97}" destId="{4CDFBD84-AD44-46AC-8A9F-A9CC5CCAEE5E}" srcOrd="10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2DF5921-51E1-4116-9D71-48290C670414}">
      <dsp:nvSpPr>
        <dsp:cNvPr id="0" name=""/>
        <dsp:cNvSpPr/>
      </dsp:nvSpPr>
      <dsp:spPr>
        <a:xfrm>
          <a:off x="-6122738" y="-937410"/>
          <a:ext cx="7293488" cy="7293488"/>
        </a:xfrm>
        <a:prstGeom prst="blockArc">
          <a:avLst>
            <a:gd name="adj1" fmla="val 18900000"/>
            <a:gd name="adj2" fmla="val 2700000"/>
            <a:gd name="adj3" fmla="val 296"/>
          </a:avLst>
        </a:prstGeom>
        <a:noFill/>
        <a:ln w="12700" cap="flat" cmpd="sng" algn="ctr">
          <a:solidFill>
            <a:schemeClr val="dk2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D094BDC7-4D03-4A4C-B31A-37983C5D6267}">
      <dsp:nvSpPr>
        <dsp:cNvPr id="0" name=""/>
        <dsp:cNvSpPr/>
      </dsp:nvSpPr>
      <dsp:spPr>
        <a:xfrm>
          <a:off x="380119" y="246332"/>
          <a:ext cx="9316305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DASH profiles for using Common Media Application Format (CMAF) are added;</a:t>
          </a:r>
          <a:endParaRPr lang="en-US" sz="1500" kern="1200" dirty="0"/>
        </a:p>
      </dsp:txBody>
      <dsp:txXfrm>
        <a:off x="380119" y="246332"/>
        <a:ext cx="9316305" cy="492448"/>
      </dsp:txXfrm>
    </dsp:sp>
    <dsp:sp modelId="{A6C796EE-92B7-41BA-82B2-BD4D764DAB71}">
      <dsp:nvSpPr>
        <dsp:cNvPr id="0" name=""/>
        <dsp:cNvSpPr/>
      </dsp:nvSpPr>
      <dsp:spPr>
        <a:xfrm>
          <a:off x="72339" y="184776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580CDDCE-E0D1-423C-8061-92F5AFA6EC6F}">
      <dsp:nvSpPr>
        <dsp:cNvPr id="0" name=""/>
        <dsp:cNvSpPr/>
      </dsp:nvSpPr>
      <dsp:spPr>
        <a:xfrm>
          <a:off x="826075" y="985438"/>
          <a:ext cx="8870349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the concept Resynchronization is added in order to identify stream access points in Segments;</a:t>
          </a:r>
          <a:endParaRPr lang="en-US" sz="1500" kern="1200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sp:txBody>
      <dsp:txXfrm>
        <a:off x="826075" y="985438"/>
        <a:ext cx="8870349" cy="492448"/>
      </dsp:txXfrm>
    </dsp:sp>
    <dsp:sp modelId="{37D7BEA0-1139-4691-BB04-3F7CF480FF7B}">
      <dsp:nvSpPr>
        <dsp:cNvPr id="0" name=""/>
        <dsp:cNvSpPr/>
      </dsp:nvSpPr>
      <dsp:spPr>
        <a:xfrm>
          <a:off x="518295" y="923882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E3ECF996-23AC-4583-A2F7-B53047622E34}">
      <dsp:nvSpPr>
        <dsp:cNvPr id="0" name=""/>
        <dsp:cNvSpPr/>
      </dsp:nvSpPr>
      <dsp:spPr>
        <a:xfrm>
          <a:off x="1070457" y="1724003"/>
          <a:ext cx="8625967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MPD patching is updated to support explicit MPD updates of smaller size, not only as </a:t>
          </a:r>
          <a:r>
            <a:rPr lang="en-GB" sz="1500" kern="1200" dirty="0" err="1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inband</a:t>
          </a:r>
          <a:r>
            <a:rPr lang="en-GB" sz="1500" kern="1200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 messages;</a:t>
          </a:r>
          <a:endParaRPr lang="en-US" sz="1500" kern="1200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sp:txBody>
      <dsp:txXfrm>
        <a:off x="1070457" y="1724003"/>
        <a:ext cx="8625967" cy="492448"/>
      </dsp:txXfrm>
    </dsp:sp>
    <dsp:sp modelId="{040157C9-BB4C-4EF5-BE39-40B568F19A45}">
      <dsp:nvSpPr>
        <dsp:cNvPr id="0" name=""/>
        <dsp:cNvSpPr/>
      </dsp:nvSpPr>
      <dsp:spPr>
        <a:xfrm>
          <a:off x="762677" y="1662447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1C54ED93-B5D6-4887-8433-AAEAC92D1D58}">
      <dsp:nvSpPr>
        <dsp:cNvPr id="0" name=""/>
        <dsp:cNvSpPr/>
      </dsp:nvSpPr>
      <dsp:spPr>
        <a:xfrm>
          <a:off x="1148486" y="2463109"/>
          <a:ext cx="8547938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a client processing model for Event Streams and Timed Metadata tracks is introduced;</a:t>
          </a:r>
          <a:endParaRPr lang="en-US" sz="1500" kern="1200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sp:txBody>
      <dsp:txXfrm>
        <a:off x="1148486" y="2463109"/>
        <a:ext cx="8547938" cy="492448"/>
      </dsp:txXfrm>
    </dsp:sp>
    <dsp:sp modelId="{6ECF6B81-98DE-4552-ADAC-76F0E219C109}">
      <dsp:nvSpPr>
        <dsp:cNvPr id="0" name=""/>
        <dsp:cNvSpPr/>
      </dsp:nvSpPr>
      <dsp:spPr>
        <a:xfrm>
          <a:off x="840706" y="2401553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7CEC09D0-0666-42ED-BC30-C01BE013D23C}">
      <dsp:nvSpPr>
        <dsp:cNvPr id="0" name=""/>
        <dsp:cNvSpPr/>
      </dsp:nvSpPr>
      <dsp:spPr>
        <a:xfrm>
          <a:off x="1070457" y="3202215"/>
          <a:ext cx="8625967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Extensions are added to content protection for efficient signalling and to support robustness levels.</a:t>
          </a:r>
          <a:endParaRPr lang="en-US" sz="1500" kern="1200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sp:txBody>
      <dsp:txXfrm>
        <a:off x="1070457" y="3202215"/>
        <a:ext cx="8625967" cy="492448"/>
      </dsp:txXfrm>
    </dsp:sp>
    <dsp:sp modelId="{633BC56D-5693-43AD-941D-1C7E3E5DAD9C}">
      <dsp:nvSpPr>
        <dsp:cNvPr id="0" name=""/>
        <dsp:cNvSpPr/>
      </dsp:nvSpPr>
      <dsp:spPr>
        <a:xfrm>
          <a:off x="762677" y="3140659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D9BA19E2-1A51-4D0C-9F1A-6552690CE7A5}">
      <dsp:nvSpPr>
        <dsp:cNvPr id="0" name=""/>
        <dsp:cNvSpPr/>
      </dsp:nvSpPr>
      <dsp:spPr>
        <a:xfrm>
          <a:off x="826075" y="3940779"/>
          <a:ext cx="8870349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A descriptor is added in order to describe the minimum required device output protection security.</a:t>
          </a:r>
          <a:endParaRPr lang="en-US" sz="1500" kern="1200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sp:txBody>
      <dsp:txXfrm>
        <a:off x="826075" y="3940779"/>
        <a:ext cx="8870349" cy="492448"/>
      </dsp:txXfrm>
    </dsp:sp>
    <dsp:sp modelId="{B0159868-2044-4577-BDC8-ECEB872AA5B0}">
      <dsp:nvSpPr>
        <dsp:cNvPr id="0" name=""/>
        <dsp:cNvSpPr/>
      </dsp:nvSpPr>
      <dsp:spPr>
        <a:xfrm>
          <a:off x="518295" y="3879223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07606088-20ED-4C6F-9815-084DD6033E9E}">
      <dsp:nvSpPr>
        <dsp:cNvPr id="0" name=""/>
        <dsp:cNvSpPr/>
      </dsp:nvSpPr>
      <dsp:spPr>
        <a:xfrm>
          <a:off x="380119" y="4679885"/>
          <a:ext cx="9316305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More flexible bandwidth signalling is provided to signal variable bitrate encoding.</a:t>
          </a:r>
          <a:endParaRPr lang="en-US" sz="1500" kern="1200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sp:txBody>
      <dsp:txXfrm>
        <a:off x="380119" y="4679885"/>
        <a:ext cx="9316305" cy="492448"/>
      </dsp:txXfrm>
    </dsp:sp>
    <dsp:sp modelId="{580AA07A-67FC-4C13-943C-7243BADF17B0}">
      <dsp:nvSpPr>
        <dsp:cNvPr id="0" name=""/>
        <dsp:cNvSpPr/>
      </dsp:nvSpPr>
      <dsp:spPr>
        <a:xfrm>
          <a:off x="72339" y="4618329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AAA1F8A3-9CE7-4950-BAEC-1F842222B9A1}">
      <dsp:nvSpPr>
        <dsp:cNvPr id="0" name=""/>
        <dsp:cNvSpPr/>
      </dsp:nvSpPr>
      <dsp:spPr>
        <a:xfrm>
          <a:off x="0" y="311913"/>
          <a:ext cx="9750556" cy="1256850"/>
        </a:xfrm>
        <a:prstGeom prst="rect">
          <a:avLst/>
        </a:prstGeom>
        <a:solidFill>
          <a:schemeClr val="lt2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56751" tIns="395732" rIns="756751" bIns="113792" numCol="1" spcCol="1270" anchor="t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600" kern="1200" dirty="0"/>
            <a:t>Nonlinear playback</a:t>
          </a:r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600" b="1" kern="1200"/>
            <a:t>Addressable Resource Index Track</a:t>
          </a:r>
          <a:endParaRPr lang="en-US" sz="1600" b="1" kern="1200" dirty="0"/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600" kern="1200" dirty="0"/>
            <a:t>DASH Period Event</a:t>
          </a:r>
        </a:p>
      </dsp:txBody>
      <dsp:txXfrm>
        <a:off x="0" y="311913"/>
        <a:ext cx="9750556" cy="1256850"/>
      </dsp:txXfrm>
    </dsp:sp>
    <dsp:sp modelId="{F3B27941-79B5-4B96-97A6-4CB741201301}">
      <dsp:nvSpPr>
        <dsp:cNvPr id="0" name=""/>
        <dsp:cNvSpPr/>
      </dsp:nvSpPr>
      <dsp:spPr>
        <a:xfrm>
          <a:off x="487527" y="31473"/>
          <a:ext cx="6825389" cy="560880"/>
        </a:xfrm>
        <a:prstGeom prst="round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57983" tIns="0" rIns="257983" bIns="0" numCol="1" spcCol="1270" anchor="ctr" anchorCtr="0">
          <a:noAutofit/>
        </a:bodyPr>
        <a:lstStyle/>
        <a:p>
          <a:pPr marL="0" lvl="0" indent="0" algn="l" defTabSz="14224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3200" kern="1200" dirty="0"/>
            <a:t>Amendment 1 – FDAM complete</a:t>
          </a:r>
        </a:p>
      </dsp:txBody>
      <dsp:txXfrm>
        <a:off x="514907" y="58853"/>
        <a:ext cx="6770629" cy="506120"/>
      </dsp:txXfrm>
    </dsp:sp>
    <dsp:sp modelId="{B0102BDD-13F8-4746-9A64-34D60BD1F339}">
      <dsp:nvSpPr>
        <dsp:cNvPr id="0" name=""/>
        <dsp:cNvSpPr/>
      </dsp:nvSpPr>
      <dsp:spPr>
        <a:xfrm>
          <a:off x="0" y="1951803"/>
          <a:ext cx="9750556" cy="1795500"/>
        </a:xfrm>
        <a:prstGeom prst="rect">
          <a:avLst/>
        </a:prstGeom>
        <a:solidFill>
          <a:schemeClr val="lt2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56751" tIns="395732" rIns="756751" bIns="113792" numCol="1" spcCol="1270" anchor="t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600" b="1" kern="1200" dirty="0"/>
            <a:t>Alternative MPD Events for Client Side/Server Guided Ad Insertion</a:t>
          </a:r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b="1" kern="1200" dirty="0"/>
            <a:t>Support for Content Steering</a:t>
          </a:r>
          <a:endParaRPr lang="en-US" sz="1600" b="1" kern="1200" dirty="0"/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kern="1200" dirty="0"/>
            <a:t>Support for </a:t>
          </a:r>
          <a:r>
            <a:rPr lang="en-US" sz="1600" kern="1200" dirty="0"/>
            <a:t>extended dependent random access point representations</a:t>
          </a:r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kern="1200" dirty="0"/>
            <a:t>Support for advanced Picture-in-Picture signaling (using VVC subpictures)</a:t>
          </a:r>
          <a:endParaRPr lang="en-US" sz="1600" kern="1200" dirty="0"/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kern="1200" dirty="0"/>
            <a:t>Support for status in Event scheme</a:t>
          </a:r>
          <a:endParaRPr lang="en-US" sz="1600" kern="1200" dirty="0"/>
        </a:p>
      </dsp:txBody>
      <dsp:txXfrm>
        <a:off x="0" y="1951803"/>
        <a:ext cx="9750556" cy="1795500"/>
      </dsp:txXfrm>
    </dsp:sp>
    <dsp:sp modelId="{D152A703-405C-414B-9D9A-9562D0B66416}">
      <dsp:nvSpPr>
        <dsp:cNvPr id="0" name=""/>
        <dsp:cNvSpPr/>
      </dsp:nvSpPr>
      <dsp:spPr>
        <a:xfrm>
          <a:off x="487527" y="1671363"/>
          <a:ext cx="6825389" cy="560880"/>
        </a:xfrm>
        <a:prstGeom prst="round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57983" tIns="0" rIns="257983" bIns="0" numCol="1" spcCol="1270" anchor="ctr" anchorCtr="0">
          <a:noAutofit/>
        </a:bodyPr>
        <a:lstStyle/>
        <a:p>
          <a:pPr marL="0" lvl="0" indent="0" algn="l" defTabSz="14224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de-DE" sz="3200" kern="1200" dirty="0"/>
            <a:t>Amendment 2  Rolled into DIS 6th ed</a:t>
          </a:r>
          <a:endParaRPr lang="en-US" sz="3200" kern="1200" dirty="0"/>
        </a:p>
      </dsp:txBody>
      <dsp:txXfrm>
        <a:off x="514907" y="1698743"/>
        <a:ext cx="6770629" cy="506120"/>
      </dsp:txXfrm>
    </dsp:sp>
    <dsp:sp modelId="{4CDFBD84-AD44-46AC-8A9F-A9CC5CCAEE5E}">
      <dsp:nvSpPr>
        <dsp:cNvPr id="0" name=""/>
        <dsp:cNvSpPr/>
      </dsp:nvSpPr>
      <dsp:spPr>
        <a:xfrm>
          <a:off x="0" y="4130343"/>
          <a:ext cx="9750556" cy="1256850"/>
        </a:xfrm>
        <a:prstGeom prst="rect">
          <a:avLst/>
        </a:prstGeom>
        <a:solidFill>
          <a:schemeClr val="lt2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56751" tIns="395732" rIns="756751" bIns="113792" numCol="1" spcCol="1270" anchor="t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b="1" kern="1200"/>
            <a:t>Support for CMCD Signaling</a:t>
          </a:r>
          <a:endParaRPr lang="en-US" sz="1600" b="1" kern="1200" dirty="0"/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b="1" kern="1200"/>
            <a:t>Segment Sequences for improved latency and switching</a:t>
          </a:r>
          <a:endParaRPr lang="en-US" sz="1600" b="1" kern="1200" dirty="0"/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b="1" kern="1200"/>
            <a:t>Improvements to Segment Timeline for Patterns and tolerance</a:t>
          </a:r>
          <a:endParaRPr lang="en-US" sz="1600" b="1" kern="1200" dirty="0"/>
        </a:p>
      </dsp:txBody>
      <dsp:txXfrm>
        <a:off x="0" y="4130343"/>
        <a:ext cx="9750556" cy="1256850"/>
      </dsp:txXfrm>
    </dsp:sp>
    <dsp:sp modelId="{9E3A8BC3-F52A-4DC8-8C65-D56BB95817A7}">
      <dsp:nvSpPr>
        <dsp:cNvPr id="0" name=""/>
        <dsp:cNvSpPr/>
      </dsp:nvSpPr>
      <dsp:spPr>
        <a:xfrm>
          <a:off x="487527" y="3849903"/>
          <a:ext cx="6825389" cy="560880"/>
        </a:xfrm>
        <a:prstGeom prst="round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57983" tIns="0" rIns="257983" bIns="0" numCol="1" spcCol="1270" anchor="ctr" anchorCtr="0">
          <a:noAutofit/>
        </a:bodyPr>
        <a:lstStyle/>
        <a:p>
          <a:pPr marL="0" lvl="0" indent="0" algn="l" defTabSz="14224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de-DE" sz="3200" kern="1200" dirty="0"/>
            <a:t>Amendment 3  Rolled into DIS 6th ed</a:t>
          </a:r>
          <a:endParaRPr lang="en-US" sz="3200" kern="1200" dirty="0"/>
        </a:p>
      </dsp:txBody>
      <dsp:txXfrm>
        <a:off x="514907" y="3877283"/>
        <a:ext cx="6770629" cy="506120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8/layout/VerticalCurvedList">
  <dgm:title val=""/>
  <dgm:desc val=""/>
  <dgm:catLst>
    <dgm:cat type="list" pri="2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>
          <dgm:prSet phldr="1"/>
        </dgm:pt>
        <dgm:pt modelId="2">
          <dgm:prSet phldr="1"/>
        </dgm:pt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7"/>
      <dgm:chPref val="7"/>
      <dgm:dir/>
    </dgm:varLst>
    <dgm:alg type="composite"/>
    <dgm:shape xmlns:r="http://schemas.openxmlformats.org/officeDocument/2006/relationships" r:blip="">
      <dgm:adjLst/>
    </dgm:shape>
    <dgm:constrLst>
      <dgm:constr type="w" for="ch" refType="h" refFor="ch" op="gte" fact="0.8"/>
    </dgm:constrLst>
    <dgm:layoutNode name="Name1">
      <dgm:alg type="composite"/>
      <dgm:shape xmlns:r="http://schemas.openxmlformats.org/officeDocument/2006/relationships" r:blip="">
        <dgm:adjLst/>
      </dgm:shape>
      <dgm:choose name="Name2">
        <dgm:if name="Name3" func="var" arg="dir" op="equ" val="norm">
          <dgm:choose name="Name4">
            <dgm:if name="Name5" axis="ch" ptType="node" func="cnt" op="equ" val="1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625"/>
                <dgm:constr type="w" for="ch" forName="accent_1" refType="h" refFor="ch" refForName="accent_1" op="equ"/>
                <dgm:constr type="ctrY" for="ch" forName="accent_1" refType="h" fact="0.5"/>
                <dgm:constr type="ctrX" for="ch" forName="accent_1" refType="h" fact="0.2253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primFontSz" for="ch" ptType="node" op="equ" val="65"/>
              </dgm:constrLst>
            </dgm:if>
            <dgm:if name="Name6" axis="ch" ptType="node" func="cnt" op="equ" val="2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3571"/>
                <dgm:constr type="w" for="ch" forName="accent_1" refType="h" refFor="ch" refForName="accent_1" op="equ"/>
                <dgm:constr type="ctrY" for="ch" forName="accent_1" refType="h" fact="0.2857"/>
                <dgm:constr type="ctrX" for="ch" forName="accent_1" refType="h" fact="0.1891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3571"/>
                <dgm:constr type="w" for="ch" forName="accent_2" refType="h" refFor="ch" refForName="accent_2" op="equ"/>
                <dgm:constr type="ctrY" for="ch" forName="accent_2" refType="h" fact="0.7143"/>
                <dgm:constr type="ctrX" for="ch" forName="accent_2" refType="h" fact="0.1891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primFontSz" for="ch" ptType="node" op="equ" val="65"/>
              </dgm:constrLst>
            </dgm:if>
            <dgm:if name="Name7" axis="ch" ptType="node" func="cnt" op="equ" val="3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25"/>
                <dgm:constr type="w" for="ch" forName="accent_1" refType="h" refFor="ch" refForName="accent_1" op="equ"/>
                <dgm:constr type="ctrY" for="ch" forName="accent_1" refType="h" fact="0.2"/>
                <dgm:constr type="ctrX" for="ch" forName="accent_1" refType="h" fact="0.1526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25"/>
                <dgm:constr type="w" for="ch" forName="accent_2" refType="h" refFor="ch" refForName="accent_2" op="equ"/>
                <dgm:constr type="ctrY" for="ch" forName="accent_2" refType="h" fact="0.5"/>
                <dgm:constr type="ctrX" for="ch" forName="accent_2" refType="h" fact="0.2253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25"/>
                <dgm:constr type="w" for="ch" forName="accent_3" refType="h" refFor="ch" refForName="accent_3" op="equ"/>
                <dgm:constr type="ctrY" for="ch" forName="accent_3" refType="h" fact="0.8"/>
                <dgm:constr type="ctrX" for="ch" forName="accent_3" refType="h" fact="0.1526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primFontSz" for="ch" ptType="node" op="equ" val="65"/>
              </dgm:constrLst>
            </dgm:if>
            <dgm:if name="Name8" axis="ch" ptType="node" func="cnt" op="equ" val="4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923"/>
                <dgm:constr type="w" for="ch" forName="accent_1" refType="h" refFor="ch" refForName="accent_1" op="equ"/>
                <dgm:constr type="ctrY" for="ch" forName="accent_1" refType="h" fact="0.1538"/>
                <dgm:constr type="ctrX" for="ch" forName="accent_1" refType="h" fact="0.1268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923"/>
                <dgm:constr type="w" for="ch" forName="accent_2" refType="h" refFor="ch" refForName="accent_2" op="equ"/>
                <dgm:constr type="ctrY" for="ch" forName="accent_2" refType="h" fact="0.3846"/>
                <dgm:constr type="ctrX" for="ch" forName="accent_2" refType="h" fact="0.215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923"/>
                <dgm:constr type="w" for="ch" forName="accent_3" refType="h" refFor="ch" refForName="accent_3" op="equ"/>
                <dgm:constr type="ctrY" for="ch" forName="accent_3" refType="h" fact="0.6154"/>
                <dgm:constr type="ctrX" for="ch" forName="accent_3" refType="h" fact="0.215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923"/>
                <dgm:constr type="w" for="ch" forName="accent_4" refType="h" refFor="ch" refForName="accent_4" op="equ"/>
                <dgm:constr type="ctrY" for="ch" forName="accent_4" refType="h" fact="0.8462"/>
                <dgm:constr type="ctrX" for="ch" forName="accent_4" refType="h" fact="0.1268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primFontSz" for="ch" ptType="node" op="equ" val="65"/>
              </dgm:constrLst>
            </dgm:if>
            <dgm:if name="Name9" axis="ch" ptType="node" func="cnt" op="equ" val="5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563"/>
                <dgm:constr type="w" for="ch" forName="accent_1" refType="h" refFor="ch" refForName="accent_1" op="equ"/>
                <dgm:constr type="ctrY" for="ch" forName="accent_1" refType="h" fact="0.125"/>
                <dgm:constr type="ctrX" for="ch" forName="accent_1" refType="h" fact="0.1082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563"/>
                <dgm:constr type="w" for="ch" forName="accent_2" refType="h" refFor="ch" refForName="accent_2" op="equ"/>
                <dgm:constr type="ctrY" for="ch" forName="accent_2" refType="h" fact="0.3125"/>
                <dgm:constr type="ctrX" for="ch" forName="accent_2" refType="h" fact="0.1978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563"/>
                <dgm:constr type="w" for="ch" forName="accent_3" refType="h" refFor="ch" refForName="accent_3" op="equ"/>
                <dgm:constr type="ctrY" for="ch" forName="accent_3" refType="h" fact="0.5"/>
                <dgm:constr type="ctrX" for="ch" forName="accent_3" refType="h" fact="0.2253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563"/>
                <dgm:constr type="w" for="ch" forName="accent_4" refType="h" refFor="ch" refForName="accent_4" op="equ"/>
                <dgm:constr type="ctrY" for="ch" forName="accent_4" refType="h" fact="0.6875"/>
                <dgm:constr type="ctrX" for="ch" forName="accent_4" refType="h" fact="0.1978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h" for="ch" forName="accent_5" refType="h" fact="0.1563"/>
                <dgm:constr type="w" for="ch" forName="accent_5" refType="h" refFor="ch" refForName="accent_5" op="equ"/>
                <dgm:constr type="ctrY" for="ch" forName="accent_5" refType="h" fact="0.875"/>
                <dgm:constr type="ctrX" for="ch" forName="accent_5" refType="h" fact="0.1082"/>
                <dgm:constr type="l" for="ch" forName="text_5" refType="ctrX" refFor="ch" refForName="accent_5"/>
                <dgm:constr type="r" for="ch" forName="text_5" refType="w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lMarg" for="ch" forName="text_5" refType="w" refFor="ch" refForName="accent_5" fact="1.8"/>
                <dgm:constr type="primFontSz" for="ch" ptType="node" op="equ" val="65"/>
              </dgm:constrLst>
            </dgm:if>
            <dgm:if name="Name10" axis="ch" ptType="node" func="cnt" op="equ" val="6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316"/>
                <dgm:constr type="w" for="ch" forName="accent_1" refType="h" refFor="ch" refForName="accent_1" op="equ"/>
                <dgm:constr type="ctrY" for="ch" forName="accent_1" refType="h" fact="0.1053"/>
                <dgm:constr type="ctrX" for="ch" forName="accent_1" refType="h" fact="0.0943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316"/>
                <dgm:constr type="w" for="ch" forName="accent_2" refType="h" refFor="ch" refForName="accent_2" op="equ"/>
                <dgm:constr type="ctrY" for="ch" forName="accent_2" refType="h" fact="0.2632"/>
                <dgm:constr type="ctrX" for="ch" forName="accent_2" refType="h" fact="0.1809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316"/>
                <dgm:constr type="w" for="ch" forName="accent_3" refType="h" refFor="ch" refForName="accent_3" op="equ"/>
                <dgm:constr type="ctrY" for="ch" forName="accent_3" refType="h" fact="0.4211"/>
                <dgm:constr type="ctrX" for="ch" forName="accent_3" refType="h" fact="0.2205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316"/>
                <dgm:constr type="w" for="ch" forName="accent_4" refType="h" refFor="ch" refForName="accent_4" op="equ"/>
                <dgm:constr type="ctrY" for="ch" forName="accent_4" refType="h" fact="0.5789"/>
                <dgm:constr type="ctrX" for="ch" forName="accent_4" refType="h" fact="0.2205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h" for="ch" forName="accent_5" refType="h" fact="0.1316"/>
                <dgm:constr type="w" for="ch" forName="accent_5" refType="h" refFor="ch" refForName="accent_5" op="equ"/>
                <dgm:constr type="ctrY" for="ch" forName="accent_5" refType="h" fact="0.7368"/>
                <dgm:constr type="ctrX" for="ch" forName="accent_5" refType="h" fact="0.1809"/>
                <dgm:constr type="l" for="ch" forName="text_5" refType="ctrX" refFor="ch" refForName="accent_5"/>
                <dgm:constr type="r" for="ch" forName="text_5" refType="w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lMarg" for="ch" forName="text_5" refType="w" refFor="ch" refForName="accent_5" fact="1.8"/>
                <dgm:constr type="h" for="ch" forName="accent_6" refType="h" fact="0.1316"/>
                <dgm:constr type="w" for="ch" forName="accent_6" refType="h" refFor="ch" refForName="accent_6" op="equ"/>
                <dgm:constr type="ctrY" for="ch" forName="accent_6" refType="h" fact="0.8947"/>
                <dgm:constr type="ctrX" for="ch" forName="accent_6" refType="h" fact="0.0943"/>
                <dgm:constr type="l" for="ch" forName="text_6" refType="ctrX" refFor="ch" refForName="accent_6"/>
                <dgm:constr type="r" for="ch" forName="text_6" refType="w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lMarg" for="ch" forName="text_6" refType="w" refFor="ch" refForName="accent_6" fact="1.8"/>
                <dgm:constr type="primFontSz" for="ch" ptType="node" op="equ" val="65"/>
              </dgm:constrLst>
            </dgm:if>
            <dgm:else name="Name11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136"/>
                <dgm:constr type="w" for="ch" forName="accent_1" refType="h" refFor="ch" refForName="accent_1" op="equ"/>
                <dgm:constr type="ctrY" for="ch" forName="accent_1" refType="h" fact="0.0909"/>
                <dgm:constr type="ctrX" for="ch" forName="accent_1" refType="h" fact="0.0835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136"/>
                <dgm:constr type="w" for="ch" forName="accent_2" refType="h" refFor="ch" refForName="accent_2" op="equ"/>
                <dgm:constr type="ctrY" for="ch" forName="accent_2" refType="h" fact="0.2273"/>
                <dgm:constr type="ctrX" for="ch" forName="accent_2" refType="h" fact="0.1658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136"/>
                <dgm:constr type="w" for="ch" forName="accent_3" refType="h" refFor="ch" refForName="accent_3" op="equ"/>
                <dgm:constr type="ctrY" for="ch" forName="accent_3" refType="h" fact="0.3636"/>
                <dgm:constr type="ctrX" for="ch" forName="accent_3" refType="h" fact="0.2109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136"/>
                <dgm:constr type="w" for="ch" forName="accent_4" refType="h" refFor="ch" refForName="accent_4" op="equ"/>
                <dgm:constr type="ctrY" for="ch" forName="accent_4" refType="h" fact="0.5"/>
                <dgm:constr type="ctrX" for="ch" forName="accent_4" refType="h" fact="0.2253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h" for="ch" forName="accent_5" refType="h" fact="0.1136"/>
                <dgm:constr type="w" for="ch" forName="accent_5" refType="h" refFor="ch" refForName="accent_5" op="equ"/>
                <dgm:constr type="ctrY" for="ch" forName="accent_5" refType="h" fact="0.6364"/>
                <dgm:constr type="ctrX" for="ch" forName="accent_5" refType="h" fact="0.2109"/>
                <dgm:constr type="l" for="ch" forName="text_5" refType="ctrX" refFor="ch" refForName="accent_5"/>
                <dgm:constr type="r" for="ch" forName="text_5" refType="w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lMarg" for="ch" forName="text_5" refType="w" refFor="ch" refForName="accent_5" fact="1.8"/>
                <dgm:constr type="h" for="ch" forName="accent_6" refType="h" fact="0.1136"/>
                <dgm:constr type="w" for="ch" forName="accent_6" refType="h" refFor="ch" refForName="accent_6" op="equ"/>
                <dgm:constr type="ctrY" for="ch" forName="accent_6" refType="h" fact="0.7727"/>
                <dgm:constr type="ctrX" for="ch" forName="accent_6" refType="h" fact="0.1658"/>
                <dgm:constr type="l" for="ch" forName="text_6" refType="ctrX" refFor="ch" refForName="accent_6"/>
                <dgm:constr type="r" for="ch" forName="text_6" refType="w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lMarg" for="ch" forName="text_6" refType="w" refFor="ch" refForName="accent_6" fact="1.8"/>
                <dgm:constr type="h" for="ch" forName="accent_7" refType="h" fact="0.1136"/>
                <dgm:constr type="w" for="ch" forName="accent_7" refType="h" refFor="ch" refForName="accent_7" op="equ"/>
                <dgm:constr type="ctrY" for="ch" forName="accent_7" refType="h" fact="0.9091"/>
                <dgm:constr type="ctrX" for="ch" forName="accent_7" refType="h" fact="0.0835"/>
                <dgm:constr type="l" for="ch" forName="text_7" refType="ctrX" refFor="ch" refForName="accent_7"/>
                <dgm:constr type="r" for="ch" forName="text_7" refType="w"/>
                <dgm:constr type="w" for="ch" forName="text_7" refType="h" refFor="ch" refForName="text_7" op="gte"/>
                <dgm:constr type="h" for="ch" forName="text_7" refType="h" refFor="ch" refForName="accent_7" fact="0.8"/>
                <dgm:constr type="ctrY" for="ch" forName="text_7" refType="ctrY" refFor="ch" refForName="accent_7"/>
                <dgm:constr type="lMarg" for="ch" forName="text_7" refType="w" refFor="ch" refForName="accent_7" fact="1.8"/>
                <dgm:constr type="primFontSz" for="ch" ptType="node" op="equ" val="65"/>
              </dgm:constrLst>
            </dgm:else>
          </dgm:choose>
        </dgm:if>
        <dgm:else name="Name12">
          <dgm:choose name="Name13">
            <dgm:if name="Name14" axis="ch" ptType="node" func="cnt" op="equ" val="1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625"/>
                <dgm:constr type="w" for="ch" forName="accent_1" refType="h" refFor="ch" refForName="accent_1" op="equ"/>
                <dgm:constr type="ctrY" for="ch" forName="accent_1" refType="h" fact="0.5"/>
                <dgm:constr type="ctrX" for="ch" forName="accent_1" refType="w"/>
                <dgm:constr type="ctrXOff" for="ch" forName="accent_1" refType="h" fact="-0.2253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primFontSz" for="ch" ptType="node" op="equ" val="65"/>
              </dgm:constrLst>
            </dgm:if>
            <dgm:if name="Name15" axis="ch" ptType="node" func="cnt" op="equ" val="2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3571"/>
                <dgm:constr type="w" for="ch" forName="accent_1" refType="h" refFor="ch" refForName="accent_1" op="equ"/>
                <dgm:constr type="ctrY" for="ch" forName="accent_1" refType="h" fact="0.2857"/>
                <dgm:constr type="ctrX" for="ch" forName="accent_1" refType="w"/>
                <dgm:constr type="ctrXOff" for="ch" forName="accent_1" refType="h" fact="-0.1891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3571"/>
                <dgm:constr type="w" for="ch" forName="accent_2" refType="h" refFor="ch" refForName="accent_2" op="equ"/>
                <dgm:constr type="ctrY" for="ch" forName="accent_2" refType="h" fact="0.7143"/>
                <dgm:constr type="ctrX" for="ch" forName="accent_2" refType="w"/>
                <dgm:constr type="ctrXOff" for="ch" forName="accent_2" refType="h" fact="-0.1891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primFontSz" for="ch" ptType="node" op="equ" val="65"/>
              </dgm:constrLst>
            </dgm:if>
            <dgm:if name="Name16" axis="ch" ptType="node" func="cnt" op="equ" val="3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25"/>
                <dgm:constr type="w" for="ch" forName="accent_1" refType="h" refFor="ch" refForName="accent_1" op="equ"/>
                <dgm:constr type="ctrY" for="ch" forName="accent_1" refType="h" fact="0.2"/>
                <dgm:constr type="ctrX" for="ch" forName="accent_1" refType="w"/>
                <dgm:constr type="ctrXOff" for="ch" forName="accent_1" refType="h" fact="-0.1526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25"/>
                <dgm:constr type="w" for="ch" forName="accent_2" refType="h" refFor="ch" refForName="accent_2" op="equ"/>
                <dgm:constr type="ctrY" for="ch" forName="accent_2" refType="h" fact="0.5"/>
                <dgm:constr type="ctrX" for="ch" forName="accent_2" refType="w"/>
                <dgm:constr type="ctrXOff" for="ch" forName="accent_2" refType="h" fact="-0.2253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25"/>
                <dgm:constr type="w" for="ch" forName="accent_3" refType="h" refFor="ch" refForName="accent_3" op="equ"/>
                <dgm:constr type="ctrY" for="ch" forName="accent_3" refType="h" fact="0.8"/>
                <dgm:constr type="ctrX" for="ch" forName="accent_3" refType="w"/>
                <dgm:constr type="ctrXOff" for="ch" forName="accent_3" refType="h" fact="-0.1526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primFontSz" for="ch" ptType="node" op="equ" val="65"/>
              </dgm:constrLst>
            </dgm:if>
            <dgm:if name="Name17" axis="ch" ptType="node" func="cnt" op="equ" val="4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923"/>
                <dgm:constr type="w" for="ch" forName="accent_1" refType="h" refFor="ch" refForName="accent_1" op="equ"/>
                <dgm:constr type="ctrY" for="ch" forName="accent_1" refType="h" fact="0.1538"/>
                <dgm:constr type="ctrX" for="ch" forName="accent_1" refType="w"/>
                <dgm:constr type="ctrXOff" for="ch" forName="accent_1" refType="h" fact="-0.1268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923"/>
                <dgm:constr type="w" for="ch" forName="accent_2" refType="h" refFor="ch" refForName="accent_2" op="equ"/>
                <dgm:constr type="ctrY" for="ch" forName="accent_2" refType="h" fact="0.3846"/>
                <dgm:constr type="ctrX" for="ch" forName="accent_2" refType="w"/>
                <dgm:constr type="ctrXOff" for="ch" forName="accent_2" refType="h" fact="-0.215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923"/>
                <dgm:constr type="w" for="ch" forName="accent_3" refType="h" refFor="ch" refForName="accent_3" op="equ"/>
                <dgm:constr type="ctrY" for="ch" forName="accent_3" refType="h" fact="0.6154"/>
                <dgm:constr type="ctrX" for="ch" forName="accent_3" refType="w"/>
                <dgm:constr type="ctrXOff" for="ch" forName="accent_3" refType="h" fact="-0.215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923"/>
                <dgm:constr type="w" for="ch" forName="accent_4" refType="h" refFor="ch" refForName="accent_4" op="equ"/>
                <dgm:constr type="ctrY" for="ch" forName="accent_4" refType="h" fact="0.8462"/>
                <dgm:constr type="ctrX" for="ch" forName="accent_4" refType="w"/>
                <dgm:constr type="ctrXOff" for="ch" forName="accent_4" refType="h" fact="-0.1268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primFontSz" for="ch" ptType="node" op="equ" val="65"/>
              </dgm:constrLst>
            </dgm:if>
            <dgm:if name="Name18" axis="ch" ptType="node" func="cnt" op="equ" val="5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563"/>
                <dgm:constr type="w" for="ch" forName="accent_1" refType="h" refFor="ch" refForName="accent_1" op="equ"/>
                <dgm:constr type="ctrY" for="ch" forName="accent_1" refType="h" fact="0.125"/>
                <dgm:constr type="ctrX" for="ch" forName="accent_1" refType="w"/>
                <dgm:constr type="ctrXOff" for="ch" forName="accent_1" refType="h" fact="-0.1082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563"/>
                <dgm:constr type="w" for="ch" forName="accent_2" refType="h" refFor="ch" refForName="accent_2" op="equ"/>
                <dgm:constr type="ctrY" for="ch" forName="accent_2" refType="h" fact="0.3125"/>
                <dgm:constr type="ctrX" for="ch" forName="accent_2" refType="w"/>
                <dgm:constr type="ctrXOff" for="ch" forName="accent_2" refType="h" fact="-0.1978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563"/>
                <dgm:constr type="w" for="ch" forName="accent_3" refType="h" refFor="ch" refForName="accent_3" op="equ"/>
                <dgm:constr type="ctrY" for="ch" forName="accent_3" refType="h" fact="0.5"/>
                <dgm:constr type="ctrX" for="ch" forName="accent_3" refType="w"/>
                <dgm:constr type="ctrXOff" for="ch" forName="accent_3" refType="h" fact="-0.2253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563"/>
                <dgm:constr type="w" for="ch" forName="accent_4" refType="h" refFor="ch" refForName="accent_4" op="equ"/>
                <dgm:constr type="ctrY" for="ch" forName="accent_4" refType="h" fact="0.6875"/>
                <dgm:constr type="ctrX" for="ch" forName="accent_4" refType="w"/>
                <dgm:constr type="ctrXOff" for="ch" forName="accent_4" refType="h" fact="-0.1978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h" for="ch" forName="accent_5" refType="h" fact="0.1563"/>
                <dgm:constr type="w" for="ch" forName="accent_5" refType="h" refFor="ch" refForName="accent_5" op="equ"/>
                <dgm:constr type="ctrY" for="ch" forName="accent_5" refType="h" fact="0.875"/>
                <dgm:constr type="ctrX" for="ch" forName="accent_5" refType="w"/>
                <dgm:constr type="ctrXOff" for="ch" forName="accent_5" refType="h" fact="-0.1082"/>
                <dgm:constr type="r" for="ch" forName="text_5" refType="ctrX" refFor="ch" refForName="accent_5"/>
                <dgm:constr type="rOff" for="ch" forName="text_5" refType="ctrXOff" refFor="ch" refForName="accent_5"/>
                <dgm:constr type="l" for="ch" forName="text_5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rMarg" for="ch" forName="text_5" refType="w" refFor="ch" refForName="accent_5" fact="1.8"/>
                <dgm:constr type="primFontSz" for="ch" ptType="node" op="equ" val="65"/>
              </dgm:constrLst>
            </dgm:if>
            <dgm:if name="Name19" axis="ch" ptType="node" func="cnt" op="equ" val="6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316"/>
                <dgm:constr type="w" for="ch" forName="accent_1" refType="h" refFor="ch" refForName="accent_1" op="equ"/>
                <dgm:constr type="ctrY" for="ch" forName="accent_1" refType="h" fact="0.1053"/>
                <dgm:constr type="ctrX" for="ch" forName="accent_1" refType="w"/>
                <dgm:constr type="ctrXOff" for="ch" forName="accent_1" refType="h" fact="-0.0943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316"/>
                <dgm:constr type="w" for="ch" forName="accent_2" refType="h" refFor="ch" refForName="accent_2" op="equ"/>
                <dgm:constr type="ctrY" for="ch" forName="accent_2" refType="h" fact="0.2632"/>
                <dgm:constr type="ctrX" for="ch" forName="accent_2" refType="w"/>
                <dgm:constr type="ctrXOff" for="ch" forName="accent_2" refType="h" fact="-0.1809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316"/>
                <dgm:constr type="w" for="ch" forName="accent_3" refType="h" refFor="ch" refForName="accent_3" op="equ"/>
                <dgm:constr type="ctrY" for="ch" forName="accent_3" refType="h" fact="0.4211"/>
                <dgm:constr type="ctrX" for="ch" forName="accent_3" refType="w"/>
                <dgm:constr type="ctrXOff" for="ch" forName="accent_3" refType="h" fact="-0.2205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316"/>
                <dgm:constr type="w" for="ch" forName="accent_4" refType="h" refFor="ch" refForName="accent_4" op="equ"/>
                <dgm:constr type="ctrY" for="ch" forName="accent_4" refType="h" fact="0.5789"/>
                <dgm:constr type="ctrX" for="ch" forName="accent_4" refType="w"/>
                <dgm:constr type="ctrXOff" for="ch" forName="accent_4" refType="h" fact="-0.2205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h" for="ch" forName="accent_5" refType="h" fact="0.1316"/>
                <dgm:constr type="w" for="ch" forName="accent_5" refType="h" refFor="ch" refForName="accent_5" op="equ"/>
                <dgm:constr type="ctrY" for="ch" forName="accent_5" refType="h" fact="0.7368"/>
                <dgm:constr type="ctrX" for="ch" forName="accent_5" refType="w"/>
                <dgm:constr type="ctrXOff" for="ch" forName="accent_5" refType="h" fact="-0.1809"/>
                <dgm:constr type="r" for="ch" forName="text_5" refType="ctrX" refFor="ch" refForName="accent_5"/>
                <dgm:constr type="rOff" for="ch" forName="text_5" refType="ctrXOff" refFor="ch" refForName="accent_5"/>
                <dgm:constr type="l" for="ch" forName="text_5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rMarg" for="ch" forName="text_5" refType="w" refFor="ch" refForName="accent_5" fact="1.8"/>
                <dgm:constr type="h" for="ch" forName="accent_6" refType="h" fact="0.1316"/>
                <dgm:constr type="w" for="ch" forName="accent_6" refType="h" refFor="ch" refForName="accent_6" op="equ"/>
                <dgm:constr type="ctrY" for="ch" forName="accent_6" refType="h" fact="0.8947"/>
                <dgm:constr type="ctrX" for="ch" forName="accent_6" refType="w"/>
                <dgm:constr type="ctrXOff" for="ch" forName="accent_6" refType="h" fact="-0.0943"/>
                <dgm:constr type="r" for="ch" forName="text_6" refType="ctrX" refFor="ch" refForName="accent_6"/>
                <dgm:constr type="rOff" for="ch" forName="text_6" refType="ctrXOff" refFor="ch" refForName="accent_6"/>
                <dgm:constr type="l" for="ch" forName="text_6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rMarg" for="ch" forName="text_6" refType="w" refFor="ch" refForName="accent_6" fact="1.8"/>
                <dgm:constr type="primFontSz" for="ch" ptType="node" op="equ" val="65"/>
              </dgm:constrLst>
            </dgm:if>
            <dgm:else name="Name20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136"/>
                <dgm:constr type="w" for="ch" forName="accent_1" refType="h" refFor="ch" refForName="accent_1" op="equ"/>
                <dgm:constr type="ctrY" for="ch" forName="accent_1" refType="h" fact="0.0909"/>
                <dgm:constr type="ctrX" for="ch" forName="accent_1" refType="w"/>
                <dgm:constr type="ctrXOff" for="ch" forName="accent_1" refType="h" fact="-0.0835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136"/>
                <dgm:constr type="w" for="ch" forName="accent_2" refType="h" refFor="ch" refForName="accent_2" op="equ"/>
                <dgm:constr type="ctrY" for="ch" forName="accent_2" refType="h" fact="0.2273"/>
                <dgm:constr type="ctrX" for="ch" forName="accent_2" refType="w"/>
                <dgm:constr type="ctrXOff" for="ch" forName="accent_2" refType="h" fact="-0.1658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136"/>
                <dgm:constr type="w" for="ch" forName="accent_3" refType="h" refFor="ch" refForName="accent_3" op="equ"/>
                <dgm:constr type="ctrY" for="ch" forName="accent_3" refType="h" fact="0.3636"/>
                <dgm:constr type="ctrX" for="ch" forName="accent_3" refType="w"/>
                <dgm:constr type="ctrXOff" for="ch" forName="accent_3" refType="h" fact="-0.2109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136"/>
                <dgm:constr type="w" for="ch" forName="accent_4" refType="h" refFor="ch" refForName="accent_4" op="equ"/>
                <dgm:constr type="ctrY" for="ch" forName="accent_4" refType="h" fact="0.5"/>
                <dgm:constr type="ctrX" for="ch" forName="accent_4" refType="w"/>
                <dgm:constr type="ctrXOff" for="ch" forName="accent_4" refType="h" fact="-0.2253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h" for="ch" forName="accent_5" refType="h" fact="0.1136"/>
                <dgm:constr type="w" for="ch" forName="accent_5" refType="h" refFor="ch" refForName="accent_5" op="equ"/>
                <dgm:constr type="ctrY" for="ch" forName="accent_5" refType="h" fact="0.6364"/>
                <dgm:constr type="ctrX" for="ch" forName="accent_5" refType="w"/>
                <dgm:constr type="ctrXOff" for="ch" forName="accent_5" refType="h" fact="-0.2109"/>
                <dgm:constr type="r" for="ch" forName="text_5" refType="ctrX" refFor="ch" refForName="accent_5"/>
                <dgm:constr type="rOff" for="ch" forName="text_5" refType="ctrXOff" refFor="ch" refForName="accent_5"/>
                <dgm:constr type="l" for="ch" forName="text_5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rMarg" for="ch" forName="text_5" refType="w" refFor="ch" refForName="accent_5" fact="1.8"/>
                <dgm:constr type="h" for="ch" forName="accent_6" refType="h" fact="0.1136"/>
                <dgm:constr type="w" for="ch" forName="accent_6" refType="h" refFor="ch" refForName="accent_6" op="equ"/>
                <dgm:constr type="ctrY" for="ch" forName="accent_6" refType="h" fact="0.7727"/>
                <dgm:constr type="ctrX" for="ch" forName="accent_6" refType="w"/>
                <dgm:constr type="ctrXOff" for="ch" forName="accent_6" refType="h" fact="-0.1658"/>
                <dgm:constr type="r" for="ch" forName="text_6" refType="ctrX" refFor="ch" refForName="accent_6"/>
                <dgm:constr type="rOff" for="ch" forName="text_6" refType="ctrXOff" refFor="ch" refForName="accent_6"/>
                <dgm:constr type="l" for="ch" forName="text_6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rMarg" for="ch" forName="text_6" refType="w" refFor="ch" refForName="accent_6" fact="1.8"/>
                <dgm:constr type="h" for="ch" forName="accent_7" refType="h" fact="0.1136"/>
                <dgm:constr type="w" for="ch" forName="accent_7" refType="h" refFor="ch" refForName="accent_7" op="equ"/>
                <dgm:constr type="ctrY" for="ch" forName="accent_7" refType="h" fact="0.9091"/>
                <dgm:constr type="ctrX" for="ch" forName="accent_7" refType="w"/>
                <dgm:constr type="ctrXOff" for="ch" forName="accent_7" refType="h" fact="-0.0835"/>
                <dgm:constr type="r" for="ch" forName="text_7" refType="ctrX" refFor="ch" refForName="accent_7"/>
                <dgm:constr type="rOff" for="ch" forName="text_7" refType="ctrXOff" refFor="ch" refForName="accent_7"/>
                <dgm:constr type="l" for="ch" forName="text_7"/>
                <dgm:constr type="w" for="ch" forName="text_7" refType="h" refFor="ch" refForName="text_7" op="gte"/>
                <dgm:constr type="h" for="ch" forName="text_7" refType="h" refFor="ch" refForName="accent_7" fact="0.8"/>
                <dgm:constr type="ctrY" for="ch" forName="text_7" refType="ctrY" refFor="ch" refForName="accent_7"/>
                <dgm:constr type="rMarg" for="ch" forName="text_7" refType="w" refFor="ch" refForName="accent_7" fact="1.8"/>
                <dgm:constr type="primFontSz" for="ch" ptType="node" op="equ" val="65"/>
              </dgm:constrLst>
            </dgm:else>
          </dgm:choose>
        </dgm:else>
      </dgm:choose>
      <dgm:layoutNode name="cycle">
        <dgm:choose name="Name21">
          <dgm:if name="Name22" func="var" arg="dir" op="equ" val="norm">
            <dgm:alg type="cycle">
              <dgm:param type="stAng" val="45"/>
              <dgm:param type="spanAng" val="90"/>
            </dgm:alg>
          </dgm:if>
          <dgm:else name="Name23">
            <dgm:alg type="cycle">
              <dgm:param type="stAng" val="225"/>
              <dgm:param type="spanAng" val="90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val="1"/>
          <dgm:constr type="h" for="ch" val="1"/>
          <dgm:constr type="diam" for="ch" forName="conn" refType="diam"/>
        </dgm:constrLst>
        <dgm:layoutNode name="srcNode">
          <dgm:alg type="sp"/>
          <dgm:shape xmlns:r="http://schemas.openxmlformats.org/officeDocument/2006/relationships" type="rect" r:blip="" hideGeom="1">
            <dgm:adjLst/>
          </dgm:shape>
          <dgm:presOf/>
        </dgm:layoutNode>
        <dgm:layoutNode name="conn" styleLbl="parChTrans1D2">
          <dgm:alg type="conn">
            <dgm:param type="connRout" val="curve"/>
            <dgm:param type="srcNode" val="srcNode"/>
            <dgm:param type="dstNode" val="dstNode"/>
            <dgm:param type="begPts" val="ctr"/>
            <dgm:param type="endPts" val="ctr"/>
            <dgm:param type="endSty" val="noArr"/>
          </dgm:alg>
          <dgm:shape xmlns:r="http://schemas.openxmlformats.org/officeDocument/2006/relationships" type="conn" r:blip="">
            <dgm:adjLst/>
          </dgm:shape>
          <dgm:presOf axis="desOrSelf" ptType="sibTrans" hideLastTrans="0" st="0" cnt="1"/>
          <dgm:constrLst>
            <dgm:constr type="begPad"/>
            <dgm:constr type="endPad"/>
          </dgm:constrLst>
        </dgm:layoutNode>
        <dgm:layoutNode name="extraNode">
          <dgm:alg type="sp"/>
          <dgm:shape xmlns:r="http://schemas.openxmlformats.org/officeDocument/2006/relationships" type="rect" r:blip="" hideGeom="1">
            <dgm:adjLst/>
          </dgm:shape>
          <dgm:presOf/>
        </dgm:layoutNode>
        <dgm:layoutNode name="dstNode">
          <dgm:alg type="sp"/>
          <dgm:shape xmlns:r="http://schemas.openxmlformats.org/officeDocument/2006/relationships" type="rect" r:blip="" hideGeom="1">
            <dgm:adjLst/>
          </dgm:shape>
          <dgm:presOf/>
        </dgm:layoutNode>
      </dgm:layoutNode>
      <dgm:forEach name="wrapper" axis="self" ptType="parTrans">
        <dgm:forEach name="wrapper2" axis="self" ptType="sibTrans" st="2">
          <dgm:forEach name="accentRepeat" axis="self">
            <dgm:layoutNode name="accentRepeatNode" styleLbl="solidFgAcc1">
              <dgm:alg type="sp"/>
              <dgm:shape xmlns:r="http://schemas.openxmlformats.org/officeDocument/2006/relationships" type="ellipse" r:blip="">
                <dgm:adjLst/>
              </dgm:shape>
              <dgm:presOf/>
            </dgm:layoutNode>
          </dgm:forEach>
        </dgm:forEach>
      </dgm:forEach>
      <dgm:forEach name="Name24" axis="ch" ptType="node" cnt="1">
        <dgm:layoutNode name="text_1" styleLbl="node1">
          <dgm:varLst>
            <dgm:bulletEnabled val="1"/>
          </dgm:varLst>
          <dgm:choose name="Name25">
            <dgm:if name="Name2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2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1">
          <dgm:alg type="sp"/>
          <dgm:shape xmlns:r="http://schemas.openxmlformats.org/officeDocument/2006/relationships" r:blip="">
            <dgm:adjLst/>
          </dgm:shape>
          <dgm:presOf/>
          <dgm:constrLst/>
          <dgm:forEach name="Name28" ref="accentRepeat"/>
        </dgm:layoutNode>
      </dgm:forEach>
      <dgm:forEach name="Name29" axis="ch" ptType="node" st="2" cnt="1">
        <dgm:layoutNode name="text_2" styleLbl="node1">
          <dgm:varLst>
            <dgm:bulletEnabled val="1"/>
          </dgm:varLst>
          <dgm:choose name="Name30">
            <dgm:if name="Name31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32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2">
          <dgm:alg type="sp"/>
          <dgm:shape xmlns:r="http://schemas.openxmlformats.org/officeDocument/2006/relationships" r:blip="">
            <dgm:adjLst/>
          </dgm:shape>
          <dgm:presOf/>
          <dgm:constrLst/>
          <dgm:forEach name="Name33" ref="accentRepeat"/>
        </dgm:layoutNode>
      </dgm:forEach>
      <dgm:forEach name="Name34" axis="ch" ptType="node" st="3" cnt="1">
        <dgm:layoutNode name="text_3" styleLbl="node1">
          <dgm:varLst>
            <dgm:bulletEnabled val="1"/>
          </dgm:varLst>
          <dgm:choose name="Name35">
            <dgm:if name="Name3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3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3">
          <dgm:alg type="sp"/>
          <dgm:shape xmlns:r="http://schemas.openxmlformats.org/officeDocument/2006/relationships" r:blip="">
            <dgm:adjLst/>
          </dgm:shape>
          <dgm:presOf/>
          <dgm:constrLst/>
          <dgm:forEach name="Name38" ref="accentRepeat"/>
        </dgm:layoutNode>
      </dgm:forEach>
      <dgm:forEach name="Name39" axis="ch" ptType="node" st="4" cnt="1">
        <dgm:layoutNode name="text_4" styleLbl="node1">
          <dgm:varLst>
            <dgm:bulletEnabled val="1"/>
          </dgm:varLst>
          <dgm:choose name="Name40">
            <dgm:if name="Name41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42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4">
          <dgm:alg type="sp"/>
          <dgm:shape xmlns:r="http://schemas.openxmlformats.org/officeDocument/2006/relationships" r:blip="">
            <dgm:adjLst/>
          </dgm:shape>
          <dgm:presOf/>
          <dgm:constrLst/>
          <dgm:forEach name="Name43" ref="accentRepeat"/>
        </dgm:layoutNode>
      </dgm:forEach>
      <dgm:forEach name="Name44" axis="ch" ptType="node" st="5" cnt="1">
        <dgm:layoutNode name="text_5" styleLbl="node1">
          <dgm:varLst>
            <dgm:bulletEnabled val="1"/>
          </dgm:varLst>
          <dgm:choose name="Name45">
            <dgm:if name="Name4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4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5">
          <dgm:alg type="sp"/>
          <dgm:shape xmlns:r="http://schemas.openxmlformats.org/officeDocument/2006/relationships" r:blip="">
            <dgm:adjLst/>
          </dgm:shape>
          <dgm:presOf/>
          <dgm:constrLst/>
          <dgm:forEach name="Name48" ref="accentRepeat"/>
        </dgm:layoutNode>
      </dgm:forEach>
      <dgm:forEach name="Name49" axis="ch" ptType="node" st="6" cnt="1">
        <dgm:layoutNode name="text_6" styleLbl="node1">
          <dgm:varLst>
            <dgm:bulletEnabled val="1"/>
          </dgm:varLst>
          <dgm:choose name="Name50">
            <dgm:if name="Name51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52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6">
          <dgm:alg type="sp"/>
          <dgm:shape xmlns:r="http://schemas.openxmlformats.org/officeDocument/2006/relationships" r:blip="">
            <dgm:adjLst/>
          </dgm:shape>
          <dgm:presOf/>
          <dgm:constrLst/>
          <dgm:forEach name="Name53" ref="accentRepeat"/>
        </dgm:layoutNode>
      </dgm:forEach>
      <dgm:forEach name="Name54" axis="ch" ptType="node" st="7" cnt="1">
        <dgm:layoutNode name="text_7" styleLbl="node1">
          <dgm:varLst>
            <dgm:bulletEnabled val="1"/>
          </dgm:varLst>
          <dgm:choose name="Name55">
            <dgm:if name="Name5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5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7">
          <dgm:alg type="sp"/>
          <dgm:shape xmlns:r="http://schemas.openxmlformats.org/officeDocument/2006/relationships" r:blip="">
            <dgm:adjLst/>
          </dgm:shape>
          <dgm:presOf/>
          <dgm:constrLst/>
          <dgm:forEach name="Name58" ref="accentRepeat"/>
        </dgm:layoutNode>
      </dgm:forEach>
    </dgm:layoutNod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2">
  <dgm:title val=""/>
  <dgm:desc val=""/>
  <dgm:catLst>
    <dgm:cat type="simple" pri="102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4D5467-5D70-4AF3-B73B-CDD2511FB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667AFD-EC34-41ED-97DE-F6E242631A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C70309-64FB-46FC-A266-6A7B08E3225B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9DB6CE-128D-4F8E-9918-0ACE56060B6B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283E-66D6-45B5-BDAD-F6C38A4E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F222-8554-4E9F-9949-73402764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E732-0F38-4BF2-9AEF-6703DBDB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4FB4-2D26-4056-AE5A-53FDF78D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CD39-1692-4DAD-85E6-C528E088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CAEF-528B-454C-B32F-26AD26C3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1F98-5D59-4046-9A33-903536AC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9AEC-64D7-4C46-98F6-2045F905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7DE2-8C6A-498F-9539-B792A89E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142A-24DE-442E-B61F-F33A0BEC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4DBC-61B4-4173-B795-BB000880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623A-2D1C-408D-B127-270202BB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554C-4E8F-4F3D-B799-399F1993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171F-208A-4276-B2B9-B9A0578F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09F6-EAEE-4638-B7C8-73BDCEC6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97CC-9FF8-413E-9D60-7F7D85EB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9941-8CAD-40C8-8A08-A10F9BA1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DEE1E-B831-464B-AF8E-B2A0D587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1E4B7-4A84-4251-9396-DD54D5D3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5BF20-9A5E-469D-8501-56E7CBF6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6E712-116C-4B57-BB4A-F48C2E28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B50B4-4C17-4A8B-884C-4D3F07B7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5358-1A8B-4EB2-B929-169D1BFC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362A1-590D-459E-A17C-7F17924F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C215E-5B45-4674-A55C-6F71D6E5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854BB-DB75-4F0A-A3C2-28954C40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3E9F5-9799-4158-BCCA-78267C3F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79FA2-3711-4EE9-8FC3-7BCDB04F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3B52B-712E-45AE-B73D-DBFC8BB7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214E6-44C7-4181-BA39-33DC3D0D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4FEAE-0F42-49C1-88BD-F6FB6FEA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8B8CD-2D53-438A-B236-6D0024FA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9BD2F-C023-4896-80CD-C9DEA832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052-4F13-4D11-B577-6D8FBADC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B2398-5B7F-4E88-8F83-CD35A257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6FFD0-A301-4DB6-8C0D-A1DBF88D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7CED2-1D32-4B52-8191-E8752D64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79E7E-8BD8-4C10-AE10-966038CE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99785-9177-4010-A044-8B9E8414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2DB44-A913-48B2-A2F3-017DC3CE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5A95F-36BB-412C-A3D6-241C3678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0942F-F9E9-403D-ACDA-379E3A82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7F834-1D80-4C6D-8653-5FA1D12D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F3DE-36FD-4E06-95C0-82731F11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A59F-4699-44A9-BD41-5F482C9A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F886-8E52-4E91-81F2-67990265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05C4-DCFC-48C5-871D-81F918C4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6C0D-749B-45A8-90B0-BCC0DAF7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680" y="4464000"/>
            <a:ext cx="9143640" cy="16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indent="0" algn="r">
              <a:lnSpc>
                <a:spcPct val="90000"/>
              </a:lnSpc>
              <a:buNone/>
            </a:pPr>
            <a:r>
              <a:rPr b="0" lang="en-US" sz="9600" spc="-301" strike="noStrike">
                <a:solidFill>
                  <a:srgbClr val="ffffff"/>
                </a:solidFill>
                <a:latin typeface="Corbel"/>
              </a:rPr>
              <a:t>Click to edit Master title style</a:t>
            </a:r>
            <a:endParaRPr b="0" lang="en-US" sz="9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eded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469FC7-F800-4F1B-929F-DC7C295855A6}" type="slidenum">
              <a:rPr b="0" lang="en-US" sz="1200" spc="-1" strike="noStrike">
                <a:solidFill>
                  <a:srgbClr val="eded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ededed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Click to edit Master title style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19960" y="1825560"/>
            <a:ext cx="1023336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8ed5c1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8ed5c1"/>
                </a:solidFill>
                <a:latin typeface="Corbel"/>
              </a:rPr>
              <a:t>Edit Master text styles</a:t>
            </a: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aacd5b"/>
              </a:buClr>
              <a:buFont typeface="Arial"/>
              <a:buChar char="•"/>
            </a:pPr>
            <a:r>
              <a:rPr b="0" lang="en-US" sz="2400" spc="-1" strike="noStrike">
                <a:solidFill>
                  <a:schemeClr val="accent2"/>
                </a:solidFill>
                <a:latin typeface="Corbel"/>
              </a:rPr>
              <a:t>Second level</a:t>
            </a:r>
            <a:endParaRPr b="0" lang="en-US" sz="2400" spc="-1" strike="noStrike">
              <a:solidFill>
                <a:srgbClr val="ededed"/>
              </a:solidFill>
              <a:latin typeface="Corbe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5a9e1"/>
              </a:buClr>
              <a:buFont typeface="Arial"/>
              <a:buChar char="•"/>
            </a:pPr>
            <a:r>
              <a:rPr b="0" lang="en-US" sz="2000" spc="-1" strike="noStrike">
                <a:solidFill>
                  <a:schemeClr val="accent3"/>
                </a:solidFill>
                <a:latin typeface="Corbel"/>
              </a:rPr>
              <a:t>Third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dbdaf"/>
              </a:buClr>
              <a:buFont typeface="Arial"/>
              <a:buChar char="•"/>
            </a:pPr>
            <a:r>
              <a:rPr b="0" lang="en-US" sz="1800" spc="-1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Corbel"/>
              </a:rPr>
              <a:t>Fourth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edede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eded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5C727B-DB2B-4931-A1C5-18612B46FA8E}" type="slidenum">
              <a:rPr b="0" lang="en-US" sz="1200" spc="-1" strike="noStrike">
                <a:solidFill>
                  <a:srgbClr val="eded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eded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1C2845-6228-471E-A1DB-1640653B2674}" type="slidenum">
              <a:rPr b="0" lang="en-US" sz="1200" spc="-1" strike="noStrike">
                <a:solidFill>
                  <a:srgbClr val="eded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ededed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Click to edit Master title style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eded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A4D808-E20D-4DD4-A63B-DDBED287BB26}" type="slidenum">
              <a:rPr b="0" lang="en-US" sz="1200" spc="-1" strike="noStrike">
                <a:solidFill>
                  <a:srgbClr val="eded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ededed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Table 3"/>
          <p:cNvGraphicFramePr/>
          <p:nvPr/>
        </p:nvGraphicFramePr>
        <p:xfrm>
          <a:off x="794520" y="2654640"/>
          <a:ext cx="10573200" cy="2756520"/>
        </p:xfrm>
        <a:graphic>
          <a:graphicData uri="http://schemas.openxmlformats.org/drawingml/2006/table">
            <a:tbl>
              <a:tblPr/>
              <a:tblGrid>
                <a:gridCol w="1566360"/>
                <a:gridCol w="9006840"/>
              </a:tblGrid>
              <a:tr h="3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our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WG2 MPEG Technical Requirem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tat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Approv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Edito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Igor Curcio (Nokia), Arianne Hinds (Tencent), Sachin Deshpande (Sharp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MPEG Roadmap after the MPEG 146 mee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Serial 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238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1080" y="569160"/>
            <a:ext cx="9557640" cy="1652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INTERNATIONAL ORGANISATION FOR STANDARDISATION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ORGANISATION INTERNATIONALE DE NORMALISATION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ISO/IEC JTC 1/SC 29/WG 2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MPEG TECHNICAL REQUIREMENTS</a:t>
            </a:r>
            <a:br>
              <a:rPr sz="1400"/>
            </a:br>
            <a:br>
              <a:rPr sz="600"/>
            </a:b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ISO/IEC JTC 1/SC 29/WG 2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N00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353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Rennes, France – April 2024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101520" y="410904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FI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7"/>
          <p:cNvSpPr/>
          <p:nvPr/>
        </p:nvSpPr>
        <p:spPr>
          <a:xfrm>
            <a:off x="830160" y="89640"/>
            <a:ext cx="106628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e8f7f3"/>
                </a:solidFill>
                <a:latin typeface="Corbel"/>
              </a:rPr>
              <a:t>MPEG organization under ISO/IEC JTC1/ SC2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eft Brace 2"/>
          <p:cNvSpPr/>
          <p:nvPr/>
        </p:nvSpPr>
        <p:spPr>
          <a:xfrm rot="16200000">
            <a:off x="5718960" y="-309240"/>
            <a:ext cx="803160" cy="11988000"/>
          </a:xfrm>
          <a:prstGeom prst="leftBrace">
            <a:avLst>
              <a:gd name="adj1" fmla="val 8333"/>
              <a:gd name="adj2" fmla="val 50098"/>
            </a:avLst>
          </a:prstGeom>
          <a:noFill/>
          <a:ln w="25400">
            <a:solidFill>
              <a:srgbClr val="65a9e1">
                <a:lumMod val="60000"/>
                <a:lumOff val="40000"/>
              </a:srgbClr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Rounded Rectangle 3"/>
          <p:cNvSpPr/>
          <p:nvPr/>
        </p:nvSpPr>
        <p:spPr>
          <a:xfrm>
            <a:off x="126720" y="1647360"/>
            <a:ext cx="144864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Technical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ounded Rectangle 14"/>
          <p:cNvSpPr/>
          <p:nvPr/>
        </p:nvSpPr>
        <p:spPr>
          <a:xfrm>
            <a:off x="82080" y="3042720"/>
            <a:ext cx="157752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ounded Rectangle 15"/>
          <p:cNvSpPr/>
          <p:nvPr/>
        </p:nvSpPr>
        <p:spPr>
          <a:xfrm>
            <a:off x="126720" y="4593960"/>
            <a:ext cx="1532880" cy="71100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Video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Straight Arrow Connector 5"/>
          <p:cNvCxnSpPr>
            <a:endCxn id="175" idx="3"/>
          </p:cNvCxnSpPr>
          <p:nvPr/>
        </p:nvCxnSpPr>
        <p:spPr>
          <a:xfrm flipH="1">
            <a:off x="1575360" y="2027880"/>
            <a:ext cx="20160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pic>
        <p:nvPicPr>
          <p:cNvPr id="179" name="Picture 8" descr="A person wearing a suit and ti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1801440" y="1528920"/>
            <a:ext cx="1002960" cy="1002960"/>
          </a:xfrm>
          <a:prstGeom prst="rect">
            <a:avLst/>
          </a:prstGeom>
          <a:ln w="0">
            <a:noFill/>
          </a:ln>
        </p:spPr>
      </p:pic>
      <p:sp>
        <p:nvSpPr>
          <p:cNvPr id="180" name="TextBox 17"/>
          <p:cNvSpPr/>
          <p:nvPr/>
        </p:nvSpPr>
        <p:spPr>
          <a:xfrm>
            <a:off x="2821320" y="1760040"/>
            <a:ext cx="16596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Igor Curcio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WG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22" descr="Youngkwon Lim, WG3 Convenor&#10;"/>
          <p:cNvPicPr/>
          <p:nvPr/>
        </p:nvPicPr>
        <p:blipFill>
          <a:blip r:embed="rId2"/>
          <a:stretch/>
        </p:blipFill>
        <p:spPr>
          <a:xfrm>
            <a:off x="1863000" y="2930400"/>
            <a:ext cx="1012680" cy="10126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3"/>
          <p:cNvSpPr/>
          <p:nvPr/>
        </p:nvSpPr>
        <p:spPr>
          <a:xfrm>
            <a:off x="2800440" y="3048480"/>
            <a:ext cx="14886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Youngkw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Lim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WG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6" descr="A person wearing glasses&#10;&#10;Description automatically generated with medium confidence"/>
          <p:cNvPicPr/>
          <p:nvPr/>
        </p:nvPicPr>
        <p:blipFill>
          <a:blip r:embed="rId3"/>
          <a:stretch/>
        </p:blipFill>
        <p:spPr>
          <a:xfrm>
            <a:off x="1872000" y="4439160"/>
            <a:ext cx="828720" cy="11260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0"/>
          <p:cNvSpPr/>
          <p:nvPr/>
        </p:nvSpPr>
        <p:spPr>
          <a:xfrm>
            <a:off x="2653920" y="4700520"/>
            <a:ext cx="13546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Lu Yu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WG4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ounded Rectangle 46"/>
          <p:cNvSpPr/>
          <p:nvPr/>
        </p:nvSpPr>
        <p:spPr>
          <a:xfrm>
            <a:off x="3912480" y="907200"/>
            <a:ext cx="1628280" cy="76320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Joint Video Coding Team with 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8" descr="A person in a suit and tie&#10;&#10;Description automatically generated with low confidence"/>
          <p:cNvPicPr/>
          <p:nvPr/>
        </p:nvPicPr>
        <p:blipFill>
          <a:blip r:embed="rId4"/>
          <a:stretch/>
        </p:blipFill>
        <p:spPr>
          <a:xfrm>
            <a:off x="4353840" y="2004480"/>
            <a:ext cx="735480" cy="1064880"/>
          </a:xfrm>
          <a:prstGeom prst="rect">
            <a:avLst/>
          </a:prstGeom>
          <a:ln w="0">
            <a:noFill/>
          </a:ln>
        </p:spPr>
      </p:pic>
      <p:cxnSp>
        <p:nvCxnSpPr>
          <p:cNvPr id="187" name="Straight Arrow Connector 49"/>
          <p:cNvCxnSpPr/>
          <p:nvPr/>
        </p:nvCxnSpPr>
        <p:spPr>
          <a:xfrm flipV="1">
            <a:off x="4753440" y="1681920"/>
            <a:ext cx="360" cy="33120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sp>
        <p:nvSpPr>
          <p:cNvPr id="188" name="TextBox 53"/>
          <p:cNvSpPr/>
          <p:nvPr/>
        </p:nvSpPr>
        <p:spPr>
          <a:xfrm>
            <a:off x="5072400" y="2115720"/>
            <a:ext cx="11390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Jens-Rainer Ohm, WG5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ounded Rectangle 56"/>
          <p:cNvSpPr/>
          <p:nvPr/>
        </p:nvSpPr>
        <p:spPr>
          <a:xfrm>
            <a:off x="3904920" y="3270600"/>
            <a:ext cx="157752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Audio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57"/>
          <p:cNvCxnSpPr/>
          <p:nvPr/>
        </p:nvCxnSpPr>
        <p:spPr>
          <a:xfrm flipV="1">
            <a:off x="4666680" y="4028760"/>
            <a:ext cx="360" cy="3315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sp>
        <p:nvSpPr>
          <p:cNvPr id="191" name="TextBox 62"/>
          <p:cNvSpPr/>
          <p:nvPr/>
        </p:nvSpPr>
        <p:spPr>
          <a:xfrm>
            <a:off x="5084280" y="4420800"/>
            <a:ext cx="12470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Thomas Sporer     WG6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ounded Rectangle 63"/>
          <p:cNvSpPr/>
          <p:nvPr/>
        </p:nvSpPr>
        <p:spPr>
          <a:xfrm>
            <a:off x="6088680" y="925920"/>
            <a:ext cx="1830960" cy="74196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 Coding for 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Graphics and Hap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5" descr="A person in a suit smiling&#10;&#10;Description automatically generated with low confidence"/>
          <p:cNvPicPr/>
          <p:nvPr/>
        </p:nvPicPr>
        <p:blipFill>
          <a:blip r:embed="rId5"/>
          <a:stretch/>
        </p:blipFill>
        <p:spPr>
          <a:xfrm>
            <a:off x="6364080" y="1962360"/>
            <a:ext cx="1012680" cy="1012680"/>
          </a:xfrm>
          <a:prstGeom prst="rect">
            <a:avLst/>
          </a:prstGeom>
          <a:ln w="0">
            <a:noFill/>
          </a:ln>
        </p:spPr>
      </p:pic>
      <p:cxnSp>
        <p:nvCxnSpPr>
          <p:cNvPr id="194" name="Straight Arrow Connector 66"/>
          <p:cNvCxnSpPr/>
          <p:nvPr/>
        </p:nvCxnSpPr>
        <p:spPr>
          <a:xfrm flipV="1">
            <a:off x="6878520" y="1637280"/>
            <a:ext cx="360" cy="3315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sp>
        <p:nvSpPr>
          <p:cNvPr id="195" name="TextBox 68"/>
          <p:cNvSpPr/>
          <p:nvPr/>
        </p:nvSpPr>
        <p:spPr>
          <a:xfrm>
            <a:off x="7308000" y="1998720"/>
            <a:ext cx="101268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Marius Preda, WG7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ounded Rectangle 70"/>
          <p:cNvSpPr/>
          <p:nvPr/>
        </p:nvSpPr>
        <p:spPr>
          <a:xfrm>
            <a:off x="6056640" y="3268440"/>
            <a:ext cx="157752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Geno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71"/>
          <p:cNvCxnSpPr/>
          <p:nvPr/>
        </p:nvCxnSpPr>
        <p:spPr>
          <a:xfrm flipV="1">
            <a:off x="6874560" y="4026600"/>
            <a:ext cx="360" cy="33120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pic>
        <p:nvPicPr>
          <p:cNvPr id="198" name="Picture 73" descr="A person with dark hair&#10;&#10;Description automatically generated with low confidence"/>
          <p:cNvPicPr/>
          <p:nvPr/>
        </p:nvPicPr>
        <p:blipFill>
          <a:blip r:embed="rId6"/>
          <a:stretch/>
        </p:blipFill>
        <p:spPr>
          <a:xfrm>
            <a:off x="6420960" y="4370040"/>
            <a:ext cx="888120" cy="8881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76"/>
          <p:cNvSpPr/>
          <p:nvPr/>
        </p:nvSpPr>
        <p:spPr>
          <a:xfrm>
            <a:off x="7332120" y="4317480"/>
            <a:ext cx="1036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Marco Mattavelli, WG8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ounded Rectangle 77"/>
          <p:cNvSpPr/>
          <p:nvPr/>
        </p:nvSpPr>
        <p:spPr>
          <a:xfrm>
            <a:off x="10541520" y="1031760"/>
            <a:ext cx="157752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 Tech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9" descr="A person wearing glasses&#10;&#10;Description automatically generated with low confidence"/>
          <p:cNvPicPr/>
          <p:nvPr/>
        </p:nvPicPr>
        <p:blipFill>
          <a:blip r:embed="rId7"/>
          <a:stretch/>
        </p:blipFill>
        <p:spPr>
          <a:xfrm>
            <a:off x="9450720" y="863280"/>
            <a:ext cx="829080" cy="1160640"/>
          </a:xfrm>
          <a:prstGeom prst="rect">
            <a:avLst/>
          </a:prstGeom>
          <a:ln w="0">
            <a:noFill/>
          </a:ln>
        </p:spPr>
      </p:pic>
      <p:cxnSp>
        <p:nvCxnSpPr>
          <p:cNvPr id="202" name="Straight Arrow Connector 80"/>
          <p:cNvCxnSpPr/>
          <p:nvPr/>
        </p:nvCxnSpPr>
        <p:spPr>
          <a:xfrm flipH="1">
            <a:off x="1629360" y="343692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cxnSp>
        <p:nvCxnSpPr>
          <p:cNvPr id="203" name="Straight Arrow Connector 81"/>
          <p:cNvCxnSpPr/>
          <p:nvPr/>
        </p:nvCxnSpPr>
        <p:spPr>
          <a:xfrm flipH="1">
            <a:off x="1626840" y="4955760"/>
            <a:ext cx="20160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cxnSp>
        <p:nvCxnSpPr>
          <p:cNvPr id="204" name="Straight Arrow Connector 82"/>
          <p:cNvCxnSpPr/>
          <p:nvPr/>
        </p:nvCxnSpPr>
        <p:spPr>
          <a:xfrm flipH="1">
            <a:off x="10344600" y="143928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headEnd len="med" type="triangle" w="med"/>
          </a:ln>
        </p:spPr>
      </p:cxnSp>
      <p:sp>
        <p:nvSpPr>
          <p:cNvPr id="205" name="TextBox 84"/>
          <p:cNvSpPr/>
          <p:nvPr/>
        </p:nvSpPr>
        <p:spPr>
          <a:xfrm>
            <a:off x="8364240" y="1012680"/>
            <a:ext cx="11433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Jörn Ostermann, AG2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ounded Rectangle 85"/>
          <p:cNvSpPr/>
          <p:nvPr/>
        </p:nvSpPr>
        <p:spPr>
          <a:xfrm>
            <a:off x="10521000" y="2194920"/>
            <a:ext cx="161748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G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Liaison and 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8" descr="A person smiling for the camera&#10;&#10;Description automatically generated with medium confidence"/>
          <p:cNvPicPr/>
          <p:nvPr/>
        </p:nvPicPr>
        <p:blipFill>
          <a:blip r:embed="rId8"/>
          <a:stretch/>
        </p:blipFill>
        <p:spPr>
          <a:xfrm>
            <a:off x="9358200" y="2158920"/>
            <a:ext cx="1012680" cy="10126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91"/>
          <p:cNvSpPr/>
          <p:nvPr/>
        </p:nvSpPr>
        <p:spPr>
          <a:xfrm>
            <a:off x="8395920" y="2244960"/>
            <a:ext cx="9702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Kyuheon Kim, AG3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ounded Rectangle 92"/>
          <p:cNvSpPr/>
          <p:nvPr/>
        </p:nvSpPr>
        <p:spPr>
          <a:xfrm>
            <a:off x="10511640" y="4717440"/>
            <a:ext cx="1629000" cy="88524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G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Visual Quality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96"/>
          <p:cNvSpPr/>
          <p:nvPr/>
        </p:nvSpPr>
        <p:spPr>
          <a:xfrm>
            <a:off x="8470800" y="4711680"/>
            <a:ext cx="9702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Mathias Wien, AG5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ounded Rectangle 97"/>
          <p:cNvSpPr/>
          <p:nvPr/>
        </p:nvSpPr>
        <p:spPr>
          <a:xfrm>
            <a:off x="10506240" y="3570840"/>
            <a:ext cx="1629000" cy="80316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G </a:t>
            </a:r>
            <a:r>
              <a:rPr b="0" i="1" lang="en-US" sz="1400" spc="-1" strike="noStrike">
                <a:solidFill>
                  <a:srgbClr val="000000"/>
                </a:solidFill>
                <a:latin typeface="Corbe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JPEG and MPEG collab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02" descr="A picture containing person, person, wearing, smiling&#10;&#10;Description automatically generated"/>
          <p:cNvPicPr/>
          <p:nvPr/>
        </p:nvPicPr>
        <p:blipFill>
          <a:blip r:embed="rId9"/>
          <a:stretch/>
        </p:blipFill>
        <p:spPr>
          <a:xfrm>
            <a:off x="9403560" y="3390480"/>
            <a:ext cx="804960" cy="1090080"/>
          </a:xfrm>
          <a:prstGeom prst="rect">
            <a:avLst/>
          </a:prstGeom>
          <a:ln w="0">
            <a:noFill/>
          </a:ln>
        </p:spPr>
      </p:pic>
      <p:sp>
        <p:nvSpPr>
          <p:cNvPr id="213" name="TextBox 105"/>
          <p:cNvSpPr/>
          <p:nvPr/>
        </p:nvSpPr>
        <p:spPr>
          <a:xfrm>
            <a:off x="8438760" y="3408480"/>
            <a:ext cx="101268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Peter Schelkens, AG4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Straight Arrow Connector 50"/>
          <p:cNvCxnSpPr/>
          <p:nvPr/>
        </p:nvCxnSpPr>
        <p:spPr>
          <a:xfrm flipH="1">
            <a:off x="6773400" y="637308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pic>
        <p:nvPicPr>
          <p:cNvPr id="215" name="Picture 6" descr="A person wearing glasses&#10;&#10;Description automatically generated with medium confidence"/>
          <p:cNvPicPr/>
          <p:nvPr/>
        </p:nvPicPr>
        <p:blipFill>
          <a:blip r:embed="rId10"/>
          <a:stretch/>
        </p:blipFill>
        <p:spPr>
          <a:xfrm>
            <a:off x="6986160" y="5817240"/>
            <a:ext cx="884520" cy="10170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55"/>
          <p:cNvSpPr/>
          <p:nvPr/>
        </p:nvSpPr>
        <p:spPr>
          <a:xfrm>
            <a:off x="7920000" y="5820480"/>
            <a:ext cx="9702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Gary Sullivan, SC29 Chairm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Straight Arrow Connector 64"/>
          <p:cNvCxnSpPr/>
          <p:nvPr/>
        </p:nvCxnSpPr>
        <p:spPr>
          <a:xfrm flipH="1">
            <a:off x="10368360" y="262044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headEnd len="med" type="triangle" w="med"/>
          </a:ln>
        </p:spPr>
      </p:cxnSp>
      <p:cxnSp>
        <p:nvCxnSpPr>
          <p:cNvPr id="218" name="Straight Arrow Connector 72"/>
          <p:cNvCxnSpPr/>
          <p:nvPr/>
        </p:nvCxnSpPr>
        <p:spPr>
          <a:xfrm flipH="1">
            <a:off x="10211040" y="4006440"/>
            <a:ext cx="30168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headEnd len="med" type="triangle" w="med"/>
          </a:ln>
        </p:spPr>
      </p:cxnSp>
      <p:cxnSp>
        <p:nvCxnSpPr>
          <p:cNvPr id="219" name="Straight Arrow Connector 83"/>
          <p:cNvCxnSpPr/>
          <p:nvPr/>
        </p:nvCxnSpPr>
        <p:spPr>
          <a:xfrm flipH="1">
            <a:off x="10349280" y="518760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headEnd len="med" type="triangle" w="med"/>
          </a:ln>
        </p:spPr>
      </p:cxnSp>
      <p:pic>
        <p:nvPicPr>
          <p:cNvPr id="220" name="Picture 94" descr="A person smiling for the camera&#10;&#10;Description automatically generated with medium confidence"/>
          <p:cNvPicPr/>
          <p:nvPr/>
        </p:nvPicPr>
        <p:blipFill>
          <a:blip r:embed="rId11"/>
          <a:stretch/>
        </p:blipFill>
        <p:spPr>
          <a:xfrm>
            <a:off x="9343800" y="4577040"/>
            <a:ext cx="1036800" cy="1036800"/>
          </a:xfrm>
          <a:prstGeom prst="rect">
            <a:avLst/>
          </a:prstGeom>
          <a:ln w="0">
            <a:noFill/>
          </a:ln>
        </p:spPr>
      </p:pic>
      <p:sp>
        <p:nvSpPr>
          <p:cNvPr id="221" name="Snip Same Side Corner Rectangle 1"/>
          <p:cNvSpPr/>
          <p:nvPr/>
        </p:nvSpPr>
        <p:spPr>
          <a:xfrm>
            <a:off x="5517000" y="5917320"/>
            <a:ext cx="1249200" cy="829440"/>
          </a:xfrm>
          <a:prstGeom prst="snip2SameRect">
            <a:avLst>
              <a:gd name="adj1" fmla="val 16667"/>
              <a:gd name="adj2" fmla="val 0"/>
            </a:avLst>
          </a:prstGeom>
          <a:solidFill>
            <a:schemeClr val="accent1">
              <a:lumMod val="60000"/>
              <a:lumOff val="40000"/>
            </a:schemeClr>
          </a:solidFill>
          <a:ln w="38100"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SC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A person with short hair wearing a green jacket&#10;&#10;Description automatically generated"/>
          <p:cNvPicPr/>
          <p:nvPr/>
        </p:nvPicPr>
        <p:blipFill>
          <a:blip r:embed="rId12"/>
          <a:stretch/>
        </p:blipFill>
        <p:spPr>
          <a:xfrm>
            <a:off x="4239360" y="4380480"/>
            <a:ext cx="844560" cy="11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37"/>
          <p:cNvGrpSpPr/>
          <p:nvPr/>
        </p:nvGrpSpPr>
        <p:grpSpPr>
          <a:xfrm>
            <a:off x="1403640" y="128520"/>
            <a:ext cx="8592840" cy="6577560"/>
            <a:chOff x="1403640" y="128520"/>
            <a:chExt cx="8592840" cy="6577560"/>
          </a:xfrm>
        </p:grpSpPr>
        <p:grpSp>
          <p:nvGrpSpPr>
            <p:cNvPr id="224" name="Group 13"/>
            <p:cNvGrpSpPr/>
            <p:nvPr/>
          </p:nvGrpSpPr>
          <p:grpSpPr>
            <a:xfrm>
              <a:off x="2340360" y="128520"/>
              <a:ext cx="676440" cy="6577560"/>
              <a:chOff x="2340360" y="128520"/>
              <a:chExt cx="676440" cy="6577560"/>
            </a:xfrm>
          </p:grpSpPr>
          <p:cxnSp>
            <p:nvCxnSpPr>
              <p:cNvPr id="225" name="Straight Connector 108"/>
              <p:cNvCxnSpPr/>
              <p:nvPr/>
            </p:nvCxnSpPr>
            <p:spPr>
              <a:xfrm>
                <a:off x="267948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26" name="TextBox 4"/>
              <p:cNvSpPr/>
              <p:nvPr/>
            </p:nvSpPr>
            <p:spPr>
              <a:xfrm>
                <a:off x="2340360" y="12852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4"/>
            <p:cNvGrpSpPr/>
            <p:nvPr/>
          </p:nvGrpSpPr>
          <p:grpSpPr>
            <a:xfrm>
              <a:off x="4104720" y="128520"/>
              <a:ext cx="676440" cy="6577560"/>
              <a:chOff x="4104720" y="128520"/>
              <a:chExt cx="676440" cy="6577560"/>
            </a:xfrm>
          </p:grpSpPr>
          <p:cxnSp>
            <p:nvCxnSpPr>
              <p:cNvPr id="228" name="Straight Connector 72"/>
              <p:cNvCxnSpPr/>
              <p:nvPr/>
            </p:nvCxnSpPr>
            <p:spPr>
              <a:xfrm>
                <a:off x="443808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29" name="TextBox 7"/>
              <p:cNvSpPr/>
              <p:nvPr/>
            </p:nvSpPr>
            <p:spPr>
              <a:xfrm>
                <a:off x="4104720" y="12852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15"/>
            <p:cNvGrpSpPr/>
            <p:nvPr/>
          </p:nvGrpSpPr>
          <p:grpSpPr>
            <a:xfrm>
              <a:off x="5867280" y="131040"/>
              <a:ext cx="676440" cy="6575040"/>
              <a:chOff x="5867280" y="131040"/>
              <a:chExt cx="676440" cy="6575040"/>
            </a:xfrm>
          </p:grpSpPr>
          <p:cxnSp>
            <p:nvCxnSpPr>
              <p:cNvPr id="231" name="Straight Connector 110"/>
              <p:cNvCxnSpPr/>
              <p:nvPr/>
            </p:nvCxnSpPr>
            <p:spPr>
              <a:xfrm>
                <a:off x="620316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32" name="TextBox 54"/>
              <p:cNvSpPr/>
              <p:nvPr/>
            </p:nvSpPr>
            <p:spPr>
              <a:xfrm>
                <a:off x="586728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6"/>
            <p:cNvGrpSpPr/>
            <p:nvPr/>
          </p:nvGrpSpPr>
          <p:grpSpPr>
            <a:xfrm>
              <a:off x="7625520" y="131040"/>
              <a:ext cx="676440" cy="6575040"/>
              <a:chOff x="7625520" y="131040"/>
              <a:chExt cx="676440" cy="6575040"/>
            </a:xfrm>
          </p:grpSpPr>
          <p:cxnSp>
            <p:nvCxnSpPr>
              <p:cNvPr id="234" name="Straight Connector 111"/>
              <p:cNvCxnSpPr/>
              <p:nvPr/>
            </p:nvCxnSpPr>
            <p:spPr>
              <a:xfrm>
                <a:off x="796500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35" name="TextBox 40"/>
              <p:cNvSpPr/>
              <p:nvPr/>
            </p:nvSpPr>
            <p:spPr>
              <a:xfrm>
                <a:off x="762552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6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7"/>
            <p:cNvGrpSpPr/>
            <p:nvPr/>
          </p:nvGrpSpPr>
          <p:grpSpPr>
            <a:xfrm>
              <a:off x="9320040" y="131040"/>
              <a:ext cx="676440" cy="6575040"/>
              <a:chOff x="9320040" y="131040"/>
              <a:chExt cx="676440" cy="6575040"/>
            </a:xfrm>
          </p:grpSpPr>
          <p:cxnSp>
            <p:nvCxnSpPr>
              <p:cNvPr id="237" name="Straight Connector 112"/>
              <p:cNvCxnSpPr/>
              <p:nvPr/>
            </p:nvCxnSpPr>
            <p:spPr>
              <a:xfrm>
                <a:off x="965628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38" name="TextBox 63"/>
              <p:cNvSpPr/>
              <p:nvPr/>
            </p:nvSpPr>
            <p:spPr>
              <a:xfrm>
                <a:off x="932004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20"/>
            <p:cNvGrpSpPr/>
            <p:nvPr/>
          </p:nvGrpSpPr>
          <p:grpSpPr>
            <a:xfrm>
              <a:off x="1403640" y="435960"/>
              <a:ext cx="6698520" cy="197640"/>
              <a:chOff x="1403640" y="435960"/>
              <a:chExt cx="6698520" cy="197640"/>
            </a:xfrm>
          </p:grpSpPr>
          <p:sp>
            <p:nvSpPr>
              <p:cNvPr id="240" name="TextBox 71"/>
              <p:cNvSpPr/>
              <p:nvPr/>
            </p:nvSpPr>
            <p:spPr>
              <a:xfrm>
                <a:off x="2508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TextBox 75"/>
              <p:cNvSpPr/>
              <p:nvPr/>
            </p:nvSpPr>
            <p:spPr>
              <a:xfrm>
                <a:off x="42580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5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TextBox 76"/>
              <p:cNvSpPr/>
              <p:nvPr/>
            </p:nvSpPr>
            <p:spPr>
              <a:xfrm>
                <a:off x="60091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9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TextBox 77"/>
              <p:cNvSpPr/>
              <p:nvPr/>
            </p:nvSpPr>
            <p:spPr>
              <a:xfrm>
                <a:off x="777600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3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TextBox 80"/>
              <p:cNvSpPr/>
              <p:nvPr/>
            </p:nvSpPr>
            <p:spPr>
              <a:xfrm>
                <a:off x="2949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2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TextBox 81"/>
              <p:cNvSpPr/>
              <p:nvPr/>
            </p:nvSpPr>
            <p:spPr>
              <a:xfrm>
                <a:off x="33861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3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TextBox 82"/>
              <p:cNvSpPr/>
              <p:nvPr/>
            </p:nvSpPr>
            <p:spPr>
              <a:xfrm>
                <a:off x="382284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4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TextBox 84"/>
              <p:cNvSpPr/>
              <p:nvPr/>
            </p:nvSpPr>
            <p:spPr>
              <a:xfrm>
                <a:off x="4695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6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TextBox 85"/>
              <p:cNvSpPr/>
              <p:nvPr/>
            </p:nvSpPr>
            <p:spPr>
              <a:xfrm>
                <a:off x="51325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7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TextBox 86"/>
              <p:cNvSpPr/>
              <p:nvPr/>
            </p:nvSpPr>
            <p:spPr>
              <a:xfrm>
                <a:off x="557100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8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TextBox 87"/>
              <p:cNvSpPr/>
              <p:nvPr/>
            </p:nvSpPr>
            <p:spPr>
              <a:xfrm>
                <a:off x="64479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TextBox 88"/>
              <p:cNvSpPr/>
              <p:nvPr/>
            </p:nvSpPr>
            <p:spPr>
              <a:xfrm>
                <a:off x="68907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TextBox 90"/>
              <p:cNvSpPr/>
              <p:nvPr/>
            </p:nvSpPr>
            <p:spPr>
              <a:xfrm>
                <a:off x="73335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2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TextBox 102"/>
              <p:cNvSpPr/>
              <p:nvPr/>
            </p:nvSpPr>
            <p:spPr>
              <a:xfrm>
                <a:off x="1403640" y="435960"/>
                <a:ext cx="92952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MPEG meeting: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Group 10"/>
          <p:cNvGrpSpPr/>
          <p:nvPr/>
        </p:nvGrpSpPr>
        <p:grpSpPr>
          <a:xfrm>
            <a:off x="104400" y="588240"/>
            <a:ext cx="12137400" cy="6384960"/>
            <a:chOff x="104400" y="588240"/>
            <a:chExt cx="12137400" cy="6384960"/>
          </a:xfrm>
        </p:grpSpPr>
        <p:sp>
          <p:nvSpPr>
            <p:cNvPr id="255" name="TextBox 106"/>
            <p:cNvSpPr/>
            <p:nvPr/>
          </p:nvSpPr>
          <p:spPr>
            <a:xfrm>
              <a:off x="10137960" y="1415520"/>
              <a:ext cx="194184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GB" sz="4000" spc="-1" strike="noStrike">
                  <a:solidFill>
                    <a:srgbClr val="ff7171"/>
                  </a:solidFill>
                  <a:latin typeface="Corbel"/>
                </a:rPr>
                <a:t>Media</a:t>
              </a:r>
              <a:br>
                <a:rPr sz="4000"/>
              </a:br>
              <a:r>
                <a:rPr b="1" lang="en-GB" sz="4000" spc="-1" strike="noStrike">
                  <a:solidFill>
                    <a:srgbClr val="ff7171"/>
                  </a:solidFill>
                  <a:latin typeface="Corbel"/>
                </a:rPr>
                <a:t>Coding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TextBox 60"/>
            <p:cNvSpPr/>
            <p:nvPr/>
          </p:nvSpPr>
          <p:spPr>
            <a:xfrm>
              <a:off x="850320" y="893160"/>
              <a:ext cx="5368320" cy="241560"/>
            </a:xfrm>
            <a:prstGeom prst="rightArrow">
              <a:avLst>
                <a:gd name="adj1" fmla="val 59315"/>
                <a:gd name="adj2" fmla="val 50000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d01900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MPEG Immersive Video v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29"/>
            <p:cNvSpPr/>
            <p:nvPr/>
          </p:nvSpPr>
          <p:spPr>
            <a:xfrm>
              <a:off x="400320" y="588240"/>
              <a:ext cx="6056640" cy="331200"/>
            </a:xfrm>
            <a:prstGeom prst="rightArrow">
              <a:avLst>
                <a:gd name="adj1" fmla="val 50969"/>
                <a:gd name="adj2" fmla="val 47829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d01900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6 DoF Aud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1"/>
            <p:cNvGrpSpPr/>
            <p:nvPr/>
          </p:nvGrpSpPr>
          <p:grpSpPr>
            <a:xfrm>
              <a:off x="2552040" y="4540320"/>
              <a:ext cx="5412600" cy="1779120"/>
              <a:chOff x="2552040" y="4540320"/>
              <a:chExt cx="5412600" cy="1779120"/>
            </a:xfrm>
          </p:grpSpPr>
          <p:sp>
            <p:nvSpPr>
              <p:cNvPr id="259" name="TextBox 65"/>
              <p:cNvSpPr/>
              <p:nvPr/>
            </p:nvSpPr>
            <p:spPr>
              <a:xfrm>
                <a:off x="2752560" y="4540320"/>
                <a:ext cx="5212080" cy="349200"/>
              </a:xfrm>
              <a:prstGeom prst="rightArrow">
                <a:avLst>
                  <a:gd name="adj1" fmla="val 61197"/>
                  <a:gd name="adj2" fmla="val 5000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4dbd9d"/>
                  </a:gs>
                </a:gsLst>
                <a:lin ang="0"/>
              </a:gradFill>
              <a:ln w="0">
                <a:noFill/>
              </a:ln>
              <a:effectLst>
                <a:outerShdw algn="tr" blurRad="50760" dir="81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Corbel"/>
                  </a:rPr>
                  <a:t>Scene Description with Advanced Interactiv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Box 107"/>
              <p:cNvSpPr/>
              <p:nvPr/>
            </p:nvSpPr>
            <p:spPr>
              <a:xfrm>
                <a:off x="2552040" y="5978160"/>
                <a:ext cx="5109480" cy="341280"/>
              </a:xfrm>
              <a:prstGeom prst="rightArrow">
                <a:avLst>
                  <a:gd name="adj1" fmla="val 61197"/>
                  <a:gd name="adj2" fmla="val 5000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4dbd9d"/>
                  </a:gs>
                </a:gsLst>
                <a:lin ang="0"/>
              </a:gradFill>
              <a:ln w="0">
                <a:noFill/>
              </a:ln>
              <a:effectLst>
                <a:outerShdw algn="tr" blurRad="50760" dir="81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Corbel"/>
                  </a:rPr>
                  <a:t>Decentralized Media Righ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TextBox 57"/>
            <p:cNvSpPr/>
            <p:nvPr/>
          </p:nvSpPr>
          <p:spPr>
            <a:xfrm>
              <a:off x="325080" y="1815120"/>
              <a:ext cx="6299640" cy="344520"/>
            </a:xfrm>
            <a:prstGeom prst="rightArrow">
              <a:avLst>
                <a:gd name="adj1" fmla="val 54721"/>
                <a:gd name="adj2" fmla="val 5000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9191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Geometry PCC v.2 (advanced compression tool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68"/>
            <p:cNvSpPr/>
            <p:nvPr/>
          </p:nvSpPr>
          <p:spPr>
            <a:xfrm>
              <a:off x="400320" y="1571400"/>
              <a:ext cx="6224400" cy="334080"/>
            </a:xfrm>
            <a:prstGeom prst="rightArrow">
              <a:avLst>
                <a:gd name="adj1" fmla="val 52605"/>
                <a:gd name="adj2" fmla="val 53919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d01900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Dynamic Mesh Compre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45"/>
            <p:cNvSpPr/>
            <p:nvPr/>
          </p:nvSpPr>
          <p:spPr>
            <a:xfrm>
              <a:off x="104400" y="4089600"/>
              <a:ext cx="6069600" cy="226440"/>
            </a:xfrm>
            <a:prstGeom prst="rightArrow">
              <a:avLst>
                <a:gd name="adj1" fmla="val 60230"/>
                <a:gd name="adj2" fmla="val 5000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4dbd9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Omnidirectional MediA Format (OMAF) – Server Side Dynamic Adap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66"/>
            <p:cNvSpPr/>
            <p:nvPr/>
          </p:nvSpPr>
          <p:spPr>
            <a:xfrm>
              <a:off x="850320" y="4773960"/>
              <a:ext cx="5359680" cy="315360"/>
            </a:xfrm>
            <a:prstGeom prst="rightArrow">
              <a:avLst>
                <a:gd name="adj1" fmla="val 61197"/>
                <a:gd name="adj2" fmla="val 5000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4dbd9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Video Decoding  Inte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43"/>
            <p:cNvSpPr/>
            <p:nvPr/>
          </p:nvSpPr>
          <p:spPr>
            <a:xfrm>
              <a:off x="9604080" y="5678280"/>
              <a:ext cx="249480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GB" sz="4000" spc="-1" strike="noStrike">
                  <a:solidFill>
                    <a:srgbClr val="a3ace5"/>
                  </a:solidFill>
                  <a:latin typeface="Corbel"/>
                </a:rPr>
                <a:t>Beyond Medi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Box 58"/>
            <p:cNvSpPr/>
            <p:nvPr/>
          </p:nvSpPr>
          <p:spPr>
            <a:xfrm>
              <a:off x="9346320" y="3821400"/>
              <a:ext cx="289548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GB" sz="4000" spc="-1" strike="noStrike">
                  <a:solidFill>
                    <a:srgbClr val="73cbb2"/>
                  </a:solidFill>
                  <a:latin typeface="Corbel"/>
                </a:rPr>
                <a:t>Systems  and Tool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TextBox 115"/>
          <p:cNvSpPr/>
          <p:nvPr/>
        </p:nvSpPr>
        <p:spPr>
          <a:xfrm>
            <a:off x="2155680" y="4993200"/>
            <a:ext cx="5837760" cy="3394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bbe6da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Delivery of 6DoF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16"/>
          <p:cNvSpPr/>
          <p:nvPr/>
        </p:nvSpPr>
        <p:spPr>
          <a:xfrm>
            <a:off x="400320" y="2747520"/>
            <a:ext cx="6299640" cy="349560"/>
          </a:xfrm>
          <a:prstGeom prst="rightArrow">
            <a:avLst>
              <a:gd name="adj1" fmla="val 59315"/>
              <a:gd name="adj2" fmla="val 50000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Video Coding for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18"/>
          <p:cNvSpPr/>
          <p:nvPr/>
        </p:nvSpPr>
        <p:spPr>
          <a:xfrm>
            <a:off x="2632680" y="4289040"/>
            <a:ext cx="3577320" cy="3412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Immersive Multi-User Inter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4"/>
          <p:cNvSpPr/>
          <p:nvPr/>
        </p:nvSpPr>
        <p:spPr>
          <a:xfrm>
            <a:off x="1387080" y="3667680"/>
            <a:ext cx="4822920" cy="33336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Green metadata v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"/>
          <p:cNvSpPr/>
          <p:nvPr/>
        </p:nvSpPr>
        <p:spPr>
          <a:xfrm>
            <a:off x="1742760" y="5182200"/>
            <a:ext cx="6221880" cy="33012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bbe6da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Holographic media to render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1842120" y="3846960"/>
            <a:ext cx="2733840" cy="3412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bbe6da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Redundant Encoding and Pack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658800" y="3004200"/>
            <a:ext cx="5122440" cy="37296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Haptics  Coding v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8"/>
          <p:cNvSpPr/>
          <p:nvPr/>
        </p:nvSpPr>
        <p:spPr>
          <a:xfrm>
            <a:off x="2297880" y="3260520"/>
            <a:ext cx="5719320" cy="349560"/>
          </a:xfrm>
          <a:prstGeom prst="rightArrow">
            <a:avLst>
              <a:gd name="adj1" fmla="val 60230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Carriage of Haptic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9"/>
          <p:cNvSpPr/>
          <p:nvPr/>
        </p:nvSpPr>
        <p:spPr>
          <a:xfrm>
            <a:off x="552600" y="2039040"/>
            <a:ext cx="5657040" cy="39852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Compression of LID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948600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22"/>
          <p:cNvSpPr/>
          <p:nvPr/>
        </p:nvSpPr>
        <p:spPr>
          <a:xfrm>
            <a:off x="81579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4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23"/>
          <p:cNvSpPr/>
          <p:nvPr/>
        </p:nvSpPr>
        <p:spPr>
          <a:xfrm>
            <a:off x="86007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24"/>
          <p:cNvSpPr/>
          <p:nvPr/>
        </p:nvSpPr>
        <p:spPr>
          <a:xfrm>
            <a:off x="904320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11"/>
          <p:cNvSpPr/>
          <p:nvPr/>
        </p:nvSpPr>
        <p:spPr>
          <a:xfrm>
            <a:off x="1694520" y="3480120"/>
            <a:ext cx="5376240" cy="34920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Open Font Format v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2721240" y="5718600"/>
            <a:ext cx="4334760" cy="3412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bbe6da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CMAF v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2"/>
          <p:cNvSpPr/>
          <p:nvPr/>
        </p:nvSpPr>
        <p:spPr>
          <a:xfrm>
            <a:off x="2108160" y="5425920"/>
            <a:ext cx="3227040" cy="182160"/>
          </a:xfrm>
          <a:prstGeom prst="rightArrow">
            <a:avLst>
              <a:gd name="adj1" fmla="val 60230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DASH v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8"/>
          <p:cNvSpPr/>
          <p:nvPr/>
        </p:nvSpPr>
        <p:spPr>
          <a:xfrm>
            <a:off x="2626920" y="5531400"/>
            <a:ext cx="3591720" cy="27936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File Format (ISOBMFF) v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1"/>
          <p:cNvSpPr/>
          <p:nvPr/>
        </p:nvSpPr>
        <p:spPr>
          <a:xfrm>
            <a:off x="3401640" y="6245280"/>
            <a:ext cx="4564080" cy="361080"/>
          </a:xfrm>
          <a:prstGeom prst="rightArrow">
            <a:avLst>
              <a:gd name="adj1" fmla="val 55129"/>
              <a:gd name="adj2" fmla="val 52152"/>
            </a:avLst>
          </a:prstGeom>
          <a:gradFill rotWithShape="0">
            <a:gsLst>
              <a:gs pos="0">
                <a:srgbClr val="6778d9"/>
              </a:gs>
              <a:gs pos="100000">
                <a:srgbClr val="a1ace8"/>
              </a:gs>
            </a:gsLst>
            <a:lin ang="270000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Graph genome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5"/>
          <p:cNvSpPr/>
          <p:nvPr/>
        </p:nvSpPr>
        <p:spPr>
          <a:xfrm>
            <a:off x="3382560" y="6502680"/>
            <a:ext cx="4564080" cy="361080"/>
          </a:xfrm>
          <a:prstGeom prst="rightArrow">
            <a:avLst>
              <a:gd name="adj1" fmla="val 55129"/>
              <a:gd name="adj2" fmla="val 52152"/>
            </a:avLst>
          </a:prstGeom>
          <a:gradFill rotWithShape="0">
            <a:gsLst>
              <a:gs pos="0">
                <a:srgbClr val="2a3da9">
                  <a:alpha val="69019"/>
                </a:srgbClr>
              </a:gs>
              <a:gs pos="100000">
                <a:srgbClr val="a1ace8"/>
              </a:gs>
            </a:gsLst>
            <a:lin ang="270000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New search capabilities of genomic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7"/>
          <p:cNvSpPr/>
          <p:nvPr/>
        </p:nvSpPr>
        <p:spPr>
          <a:xfrm>
            <a:off x="1937880" y="2498760"/>
            <a:ext cx="6026760" cy="38412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AI Graphics Co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6"/>
          <p:cNvSpPr/>
          <p:nvPr/>
        </p:nvSpPr>
        <p:spPr>
          <a:xfrm>
            <a:off x="4344480" y="1360080"/>
            <a:ext cx="3620520" cy="30420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Feature Coding for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8"/>
          <p:cNvSpPr/>
          <p:nvPr/>
        </p:nvSpPr>
        <p:spPr>
          <a:xfrm>
            <a:off x="4466160" y="1117440"/>
            <a:ext cx="2594160" cy="35928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900" spc="-1" strike="noStrike">
                <a:solidFill>
                  <a:srgbClr val="ffffff"/>
                </a:solidFill>
                <a:latin typeface="Corbel"/>
              </a:rPr>
              <a:t>Video coding optimizations for machine 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1"/>
          <p:cNvSpPr/>
          <p:nvPr/>
        </p:nvSpPr>
        <p:spPr>
          <a:xfrm>
            <a:off x="2436840" y="2309760"/>
            <a:ext cx="3079800" cy="35928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Film grain synthesi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37"/>
          <p:cNvGrpSpPr/>
          <p:nvPr/>
        </p:nvGrpSpPr>
        <p:grpSpPr>
          <a:xfrm>
            <a:off x="675000" y="128520"/>
            <a:ext cx="8592840" cy="6577560"/>
            <a:chOff x="675000" y="128520"/>
            <a:chExt cx="8592840" cy="6577560"/>
          </a:xfrm>
        </p:grpSpPr>
        <p:grpSp>
          <p:nvGrpSpPr>
            <p:cNvPr id="291" name="Group 13"/>
            <p:cNvGrpSpPr/>
            <p:nvPr/>
          </p:nvGrpSpPr>
          <p:grpSpPr>
            <a:xfrm>
              <a:off x="1611720" y="128520"/>
              <a:ext cx="676440" cy="6577560"/>
              <a:chOff x="1611720" y="128520"/>
              <a:chExt cx="676440" cy="6577560"/>
            </a:xfrm>
          </p:grpSpPr>
          <p:cxnSp>
            <p:nvCxnSpPr>
              <p:cNvPr id="292" name="Straight Connector 108"/>
              <p:cNvCxnSpPr/>
              <p:nvPr/>
            </p:nvCxnSpPr>
            <p:spPr>
              <a:xfrm>
                <a:off x="195084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93" name="TextBox 4"/>
              <p:cNvSpPr/>
              <p:nvPr/>
            </p:nvSpPr>
            <p:spPr>
              <a:xfrm>
                <a:off x="1611720" y="12852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"/>
            <p:cNvGrpSpPr/>
            <p:nvPr/>
          </p:nvGrpSpPr>
          <p:grpSpPr>
            <a:xfrm>
              <a:off x="3376080" y="128520"/>
              <a:ext cx="676440" cy="6577560"/>
              <a:chOff x="3376080" y="128520"/>
              <a:chExt cx="676440" cy="6577560"/>
            </a:xfrm>
          </p:grpSpPr>
          <p:cxnSp>
            <p:nvCxnSpPr>
              <p:cNvPr id="295" name="Straight Connector 72"/>
              <p:cNvCxnSpPr/>
              <p:nvPr/>
            </p:nvCxnSpPr>
            <p:spPr>
              <a:xfrm>
                <a:off x="370944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96" name="TextBox 7"/>
              <p:cNvSpPr/>
              <p:nvPr/>
            </p:nvSpPr>
            <p:spPr>
              <a:xfrm>
                <a:off x="3376080" y="12852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"/>
            <p:cNvGrpSpPr/>
            <p:nvPr/>
          </p:nvGrpSpPr>
          <p:grpSpPr>
            <a:xfrm>
              <a:off x="5138640" y="131040"/>
              <a:ext cx="676440" cy="6575040"/>
              <a:chOff x="5138640" y="131040"/>
              <a:chExt cx="676440" cy="6575040"/>
            </a:xfrm>
          </p:grpSpPr>
          <p:cxnSp>
            <p:nvCxnSpPr>
              <p:cNvPr id="298" name="Straight Connector 110"/>
              <p:cNvCxnSpPr/>
              <p:nvPr/>
            </p:nvCxnSpPr>
            <p:spPr>
              <a:xfrm>
                <a:off x="547452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99" name="TextBox 54"/>
              <p:cNvSpPr/>
              <p:nvPr/>
            </p:nvSpPr>
            <p:spPr>
              <a:xfrm>
                <a:off x="513864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6"/>
            <p:cNvGrpSpPr/>
            <p:nvPr/>
          </p:nvGrpSpPr>
          <p:grpSpPr>
            <a:xfrm>
              <a:off x="6896880" y="131040"/>
              <a:ext cx="676440" cy="6575040"/>
              <a:chOff x="6896880" y="131040"/>
              <a:chExt cx="676440" cy="6575040"/>
            </a:xfrm>
          </p:grpSpPr>
          <p:cxnSp>
            <p:nvCxnSpPr>
              <p:cNvPr id="301" name="Straight Connector 111"/>
              <p:cNvCxnSpPr/>
              <p:nvPr/>
            </p:nvCxnSpPr>
            <p:spPr>
              <a:xfrm>
                <a:off x="723636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302" name="TextBox 40"/>
              <p:cNvSpPr/>
              <p:nvPr/>
            </p:nvSpPr>
            <p:spPr>
              <a:xfrm>
                <a:off x="689688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6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17"/>
            <p:cNvGrpSpPr/>
            <p:nvPr/>
          </p:nvGrpSpPr>
          <p:grpSpPr>
            <a:xfrm>
              <a:off x="8591400" y="131040"/>
              <a:ext cx="676440" cy="6575040"/>
              <a:chOff x="8591400" y="131040"/>
              <a:chExt cx="676440" cy="6575040"/>
            </a:xfrm>
          </p:grpSpPr>
          <p:cxnSp>
            <p:nvCxnSpPr>
              <p:cNvPr id="304" name="Straight Connector 112"/>
              <p:cNvCxnSpPr/>
              <p:nvPr/>
            </p:nvCxnSpPr>
            <p:spPr>
              <a:xfrm>
                <a:off x="892764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305" name="TextBox 63"/>
              <p:cNvSpPr/>
              <p:nvPr/>
            </p:nvSpPr>
            <p:spPr>
              <a:xfrm>
                <a:off x="859140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20"/>
            <p:cNvGrpSpPr/>
            <p:nvPr/>
          </p:nvGrpSpPr>
          <p:grpSpPr>
            <a:xfrm>
              <a:off x="675000" y="435960"/>
              <a:ext cx="6698520" cy="197640"/>
              <a:chOff x="675000" y="435960"/>
              <a:chExt cx="6698520" cy="197640"/>
            </a:xfrm>
          </p:grpSpPr>
          <p:sp>
            <p:nvSpPr>
              <p:cNvPr id="307" name="TextBox 71"/>
              <p:cNvSpPr/>
              <p:nvPr/>
            </p:nvSpPr>
            <p:spPr>
              <a:xfrm>
                <a:off x="177984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TextBox 75"/>
              <p:cNvSpPr/>
              <p:nvPr/>
            </p:nvSpPr>
            <p:spPr>
              <a:xfrm>
                <a:off x="352944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5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TextBox 76"/>
              <p:cNvSpPr/>
              <p:nvPr/>
            </p:nvSpPr>
            <p:spPr>
              <a:xfrm>
                <a:off x="5280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9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TextBox 77"/>
              <p:cNvSpPr/>
              <p:nvPr/>
            </p:nvSpPr>
            <p:spPr>
              <a:xfrm>
                <a:off x="70473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3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TextBox 80"/>
              <p:cNvSpPr/>
              <p:nvPr/>
            </p:nvSpPr>
            <p:spPr>
              <a:xfrm>
                <a:off x="2220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2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TextBox 81"/>
              <p:cNvSpPr/>
              <p:nvPr/>
            </p:nvSpPr>
            <p:spPr>
              <a:xfrm>
                <a:off x="26575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3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TextBox 82"/>
              <p:cNvSpPr/>
              <p:nvPr/>
            </p:nvSpPr>
            <p:spPr>
              <a:xfrm>
                <a:off x="309420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4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TextBox 84"/>
              <p:cNvSpPr/>
              <p:nvPr/>
            </p:nvSpPr>
            <p:spPr>
              <a:xfrm>
                <a:off x="396684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6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TextBox 85"/>
              <p:cNvSpPr/>
              <p:nvPr/>
            </p:nvSpPr>
            <p:spPr>
              <a:xfrm>
                <a:off x="44038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7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Box 86"/>
              <p:cNvSpPr/>
              <p:nvPr/>
            </p:nvSpPr>
            <p:spPr>
              <a:xfrm>
                <a:off x="48423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8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Box 87"/>
              <p:cNvSpPr/>
              <p:nvPr/>
            </p:nvSpPr>
            <p:spPr>
              <a:xfrm>
                <a:off x="57193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TextBox 88"/>
              <p:cNvSpPr/>
              <p:nvPr/>
            </p:nvSpPr>
            <p:spPr>
              <a:xfrm>
                <a:off x="61621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TextBox 90"/>
              <p:cNvSpPr/>
              <p:nvPr/>
            </p:nvSpPr>
            <p:spPr>
              <a:xfrm>
                <a:off x="66049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2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TextBox 102"/>
              <p:cNvSpPr/>
              <p:nvPr/>
            </p:nvSpPr>
            <p:spPr>
              <a:xfrm>
                <a:off x="675000" y="435960"/>
                <a:ext cx="92952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MPEG meeting: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1" name="Group 10"/>
          <p:cNvGrpSpPr/>
          <p:nvPr/>
        </p:nvGrpSpPr>
        <p:grpSpPr>
          <a:xfrm>
            <a:off x="1270440" y="666720"/>
            <a:ext cx="10685520" cy="5787720"/>
            <a:chOff x="1270440" y="666720"/>
            <a:chExt cx="10685520" cy="5787720"/>
          </a:xfrm>
        </p:grpSpPr>
        <p:sp>
          <p:nvSpPr>
            <p:cNvPr id="322" name="TextBox 29"/>
            <p:cNvSpPr/>
            <p:nvPr/>
          </p:nvSpPr>
          <p:spPr>
            <a:xfrm>
              <a:off x="1270440" y="666720"/>
              <a:ext cx="4227840" cy="258120"/>
            </a:xfrm>
            <a:prstGeom prst="rightArrow">
              <a:avLst>
                <a:gd name="adj1" fmla="val 50969"/>
                <a:gd name="adj2" fmla="val 47829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2f44b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Lenslet video coding for dense light field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Box 57"/>
            <p:cNvSpPr/>
            <p:nvPr/>
          </p:nvSpPr>
          <p:spPr>
            <a:xfrm>
              <a:off x="2735640" y="1597320"/>
              <a:ext cx="4487040" cy="311040"/>
            </a:xfrm>
            <a:prstGeom prst="rightArrow">
              <a:avLst>
                <a:gd name="adj1" fmla="val 54721"/>
                <a:gd name="adj2" fmla="val 5000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2f44b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Enhanced compression beyond VVC capabil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68"/>
            <p:cNvSpPr/>
            <p:nvPr/>
          </p:nvSpPr>
          <p:spPr>
            <a:xfrm>
              <a:off x="1691640" y="1342440"/>
              <a:ext cx="4695840" cy="267120"/>
            </a:xfrm>
            <a:prstGeom prst="rightArrow">
              <a:avLst>
                <a:gd name="adj1" fmla="val 52605"/>
                <a:gd name="adj2" fmla="val 53919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2f44b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Neural network-based video compre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58"/>
            <p:cNvSpPr/>
            <p:nvPr/>
          </p:nvSpPr>
          <p:spPr>
            <a:xfrm>
              <a:off x="8763480" y="4825440"/>
              <a:ext cx="3192480" cy="16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GB" sz="3400" spc="-1" strike="noStrike">
                  <a:solidFill>
                    <a:srgbClr val="ffff00"/>
                  </a:solidFill>
                  <a:latin typeface="Corbel"/>
                </a:rPr>
                <a:t>Major Maintenance items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TextBox 105"/>
            <p:cNvSpPr/>
            <p:nvPr/>
          </p:nvSpPr>
          <p:spPr>
            <a:xfrm>
              <a:off x="2795760" y="1911240"/>
              <a:ext cx="3592080" cy="345240"/>
            </a:xfrm>
            <a:prstGeom prst="rightArrow">
              <a:avLst>
                <a:gd name="adj1" fmla="val 55318"/>
                <a:gd name="adj2" fmla="val 60002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2f44b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Implicit neural visual repres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106"/>
            <p:cNvSpPr/>
            <p:nvPr/>
          </p:nvSpPr>
          <p:spPr>
            <a:xfrm>
              <a:off x="9217800" y="2338920"/>
              <a:ext cx="27334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GB" sz="3400" spc="-1" strike="noStrike">
                  <a:solidFill>
                    <a:schemeClr val="accent4">
                      <a:lumMod val="60000"/>
                      <a:lumOff val="40000"/>
                    </a:schemeClr>
                  </a:solidFill>
                  <a:latin typeface="Corbel"/>
                </a:rPr>
                <a:t>Explorations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TextBox 118"/>
          <p:cNvSpPr/>
          <p:nvPr/>
        </p:nvSpPr>
        <p:spPr>
          <a:xfrm>
            <a:off x="3403800" y="5133600"/>
            <a:ext cx="2053440" cy="25020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Video supplemental enhancement information v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5"/>
          <p:cNvSpPr/>
          <p:nvPr/>
        </p:nvSpPr>
        <p:spPr>
          <a:xfrm>
            <a:off x="1348920" y="2562120"/>
            <a:ext cx="5873760" cy="40068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Render-based archite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8"/>
          <p:cNvSpPr/>
          <p:nvPr/>
        </p:nvSpPr>
        <p:spPr>
          <a:xfrm>
            <a:off x="1123920" y="5982480"/>
            <a:ext cx="2632320" cy="291600"/>
          </a:xfrm>
          <a:prstGeom prst="rightArrow">
            <a:avLst>
              <a:gd name="adj1" fmla="val 60230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MPEG-2 Transport Stream v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9"/>
          <p:cNvSpPr/>
          <p:nvPr/>
        </p:nvSpPr>
        <p:spPr>
          <a:xfrm>
            <a:off x="87573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22"/>
          <p:cNvSpPr/>
          <p:nvPr/>
        </p:nvSpPr>
        <p:spPr>
          <a:xfrm>
            <a:off x="74289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4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23"/>
          <p:cNvSpPr/>
          <p:nvPr/>
        </p:nvSpPr>
        <p:spPr>
          <a:xfrm>
            <a:off x="787212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Box 24"/>
          <p:cNvSpPr/>
          <p:nvPr/>
        </p:nvSpPr>
        <p:spPr>
          <a:xfrm>
            <a:off x="83145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21"/>
          <p:cNvSpPr/>
          <p:nvPr/>
        </p:nvSpPr>
        <p:spPr>
          <a:xfrm>
            <a:off x="654840" y="2191320"/>
            <a:ext cx="6581160" cy="40068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6G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"/>
          <p:cNvSpPr/>
          <p:nvPr/>
        </p:nvSpPr>
        <p:spPr>
          <a:xfrm>
            <a:off x="1318680" y="5526360"/>
            <a:ext cx="5154480" cy="291600"/>
          </a:xfrm>
          <a:prstGeom prst="rightArrow">
            <a:avLst>
              <a:gd name="adj1" fmla="val 60230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MPEG 4 audio con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"/>
          <p:cNvSpPr/>
          <p:nvPr/>
        </p:nvSpPr>
        <p:spPr>
          <a:xfrm>
            <a:off x="3682800" y="3391200"/>
            <a:ext cx="3264480" cy="38052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AI support for representation and search of genomic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3"/>
          <p:cNvSpPr/>
          <p:nvPr/>
        </p:nvSpPr>
        <p:spPr>
          <a:xfrm>
            <a:off x="1960200" y="1000080"/>
            <a:ext cx="3538440" cy="295920"/>
          </a:xfrm>
          <a:prstGeom prst="rightArrow">
            <a:avLst>
              <a:gd name="adj1" fmla="val 59315"/>
              <a:gd name="adj2" fmla="val 50000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Generative Fac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6"/>
          <p:cNvSpPr/>
          <p:nvPr/>
        </p:nvSpPr>
        <p:spPr>
          <a:xfrm>
            <a:off x="2579760" y="2940480"/>
            <a:ext cx="4686120" cy="40068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Avatar 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8"/>
          <p:cNvSpPr/>
          <p:nvPr/>
        </p:nvSpPr>
        <p:spPr>
          <a:xfrm>
            <a:off x="3587760" y="3778200"/>
            <a:ext cx="3892320" cy="38052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Management of privacy and protection of genomic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5"/>
          <p:cNvSpPr/>
          <p:nvPr/>
        </p:nvSpPr>
        <p:spPr>
          <a:xfrm>
            <a:off x="3599280" y="4088880"/>
            <a:ext cx="3264480" cy="38052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Indication of AI generated/altere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6"/>
          <p:cNvSpPr/>
          <p:nvPr/>
        </p:nvSpPr>
        <p:spPr>
          <a:xfrm>
            <a:off x="3398400" y="4603680"/>
            <a:ext cx="2075760" cy="3430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Versatile Video Coding v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de-DE" sz="5400" spc="-1" strike="noStrike">
                <a:solidFill>
                  <a:srgbClr val="ffffff"/>
                </a:solidFill>
                <a:latin typeface="Corbel"/>
              </a:rPr>
              <a:t>DASH – 5th Edition Extensions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694149085"/>
              </p:ext>
            </p:extLst>
          </p:nvPr>
        </p:nvGraphicFramePr>
        <p:xfrm>
          <a:off x="1469520" y="1302840"/>
          <a:ext cx="9768240" cy="5418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23EC8-5414-44D1-BB72-AA04141EF3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de-DE" sz="4400" spc="-1" strike="noStrike">
                <a:solidFill>
                  <a:srgbClr val="ffffff"/>
                </a:solidFill>
                <a:latin typeface="Corbel"/>
              </a:rPr>
              <a:t>DASH 6th Edition – Overview of Features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816951792"/>
              </p:ext>
            </p:extLst>
          </p:nvPr>
        </p:nvGraphicFramePr>
        <p:xfrm>
          <a:off x="1753200" y="1319400"/>
          <a:ext cx="9750240" cy="5418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45" name="PlaceHolder 2"/>
          <p:cNvSpPr>
            <a:spLocks noGrp="1"/>
          </p:cNvSpPr>
          <p:nvPr>
            <p:ph type="sldNum" idx="16"/>
          </p:nvPr>
        </p:nvSpPr>
        <p:spPr>
          <a:xfrm>
            <a:off x="7774920" y="6346440"/>
            <a:ext cx="2973600" cy="364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538FD8-6A24-4598-9260-FAA2838ADAF4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Table 4"/>
          <p:cNvGraphicFramePr/>
          <p:nvPr/>
        </p:nvGraphicFramePr>
        <p:xfrm>
          <a:off x="248760" y="175320"/>
          <a:ext cx="11694240" cy="7755120"/>
        </p:xfrm>
        <a:graphic>
          <a:graphicData uri="http://schemas.openxmlformats.org/drawingml/2006/table">
            <a:tbl>
              <a:tblPr/>
              <a:tblGrid>
                <a:gridCol w="3144240"/>
                <a:gridCol w="2702880"/>
                <a:gridCol w="2923560"/>
                <a:gridCol w="2923560"/>
              </a:tblGrid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Features (5 &amp; 6th editio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DASH-IF IOP 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Dash.js 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Test/Live Sim 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MAF Pro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Part of DASH-IF v5, part 2, 4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Handled through MSE/brow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CTA WAVE Test 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6936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ow-Latency D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Part of DASH-IF v5, part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Sup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Supported in live 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970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PD Patc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orbel"/>
                        </a:rPr>
                        <a:t>Not yet ad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Sup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highlight>
                            <a:srgbClr val="ffff00"/>
                          </a:highlight>
                          <a:latin typeface="Corbel"/>
                        </a:rPr>
                        <a:t>Progressed</a:t>
                      </a: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, W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vent Str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DASH-IF v5 part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Sup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Rudementary in Live sim, more work nee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dvanced Content Prot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in part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refID supported</a:t>
                      </a: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, not robust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up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lternative MPD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Considered for part 5, not yet sta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ontent Ste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ETSI spec, but not yet in I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Basic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Service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hing avai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M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CTA spec, not yet in I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Supported in v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MPD parsing in prog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highlight>
                            <a:srgbClr val="ffff00"/>
                          </a:highlight>
                          <a:latin typeface="Corbel"/>
                        </a:rPr>
                        <a:t>Nothing available (Student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936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3D and Segment Sequ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In progress for v5.1 part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2970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attern signa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970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RI Tr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pth">
  <a:themeElements>
    <a:clrScheme name="Depth">
      <a:dk1>
        <a:srgbClr val="000000"/>
      </a:dk1>
      <a:lt1>
        <a:srgbClr val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pth">
  <a:themeElements>
    <a:clrScheme name="Depth">
      <a:dk1>
        <a:srgbClr val="000000"/>
      </a:dk1>
      <a:lt1>
        <a:srgbClr val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epth">
  <a:themeElements>
    <a:clrScheme name="Depth">
      <a:dk1>
        <a:srgbClr val="000000"/>
      </a:dk1>
      <a:lt1>
        <a:srgbClr val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Depth">
  <a:themeElements>
    <a:clrScheme name="Depth">
      <a:dk1>
        <a:srgbClr val="000000"/>
      </a:dk1>
      <a:lt1>
        <a:srgbClr val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4033923[[fn=Depth]]</Template>
  <TotalTime>23096</TotalTime>
  <Application>LibreOffice/7.4.7.2$Linux_X86_64 LibreOffice_project/40$Build-2</Application>
  <AppVersion>15.0000</AppVersion>
  <Words>861</Words>
  <Paragraphs>2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0T11:00:54Z</dcterms:created>
  <dc:creator>Koenen, R.H. (Rob)</dc:creator>
  <dc:description/>
  <dc:language>en-US</dc:language>
  <cp:lastModifiedBy>Thomas Stockhammer</cp:lastModifiedBy>
  <dcterms:modified xsi:type="dcterms:W3CDTF">2024-06-12T10:02:29Z</dcterms:modified>
  <cp:revision>388</cp:revision>
  <dc:subject/>
  <dc:title>Requirements for OMAF V.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Widescreen</vt:lpwstr>
  </property>
  <property fmtid="{D5CDD505-2E9C-101B-9397-08002B2CF9AE}" pid="4" name="Slides">
    <vt:r8>7</vt:r8>
  </property>
</Properties>
</file>